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730A-C2C8-4093-9B66-DFF1C2B79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A049-EA45-485A-BF4F-36373582E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DABE-210A-4C9B-97D8-19113F96A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93E7-5688-4105-9541-3E1D78C61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482E-C717-4F03-8BD8-00DA89287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34C5-DDA5-4B24-977C-0E7713FC2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B6E0-9F59-4006-812E-F463A0FF7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A58C-BA75-4917-B99A-8FDA61DF5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D068-77C5-4CC7-BD1F-09662A99A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44D7-0F78-4787-A429-917C6F7A6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BA0A-126E-4B9A-BADA-3FC00210F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95F5-7EA7-4C24-9AFB-2F3E1ED67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1DEF5-BBB3-4A9A-8B8A-32B289F520C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1676520"/>
            <a:ext cx="8001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’algoritmo consiste in una sommatoria, che moltiplica le emissioni degli inquinanti per cui è presente un valore del coefficiente per il corrispondente coefficient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09680" y="4722840"/>
            <a:ext cx="4800600" cy="15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</a:t>
            </a:r>
            <a:r>
              <a:rPr b="0" lang="it-IT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cursori ozono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(Prec_O</a:t>
            </a:r>
            <a:r>
              <a:rPr b="0" lang="it-IT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stanze acidificanti (H+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33520" y="382428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i inquinanti calcolati sono i seguent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228600"/>
            <a:ext cx="8610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GORITMO PER LA STIMA DELLE EMISSIONI AGGREG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609480" y="15228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cio della procedur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issioni Aggreg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533520" y="1295280"/>
            <a:ext cx="8076960" cy="5403960"/>
            <a:chOff x="533520" y="1295280"/>
            <a:chExt cx="8076960" cy="5403960"/>
          </a:xfrm>
        </p:grpSpPr>
        <p:pic>
          <p:nvPicPr>
            <p:cNvPr id="69" name="" descr=""/>
            <p:cNvPicPr/>
            <p:nvPr/>
          </p:nvPicPr>
          <p:blipFill>
            <a:blip r:embed="rId1"/>
            <a:srcRect l="0" t="0" r="17970" b="23960"/>
            <a:stretch/>
          </p:blipFill>
          <p:spPr>
            <a:xfrm>
              <a:off x="533520" y="1295280"/>
              <a:ext cx="8076960" cy="540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685800" y="4343400"/>
              <a:ext cx="1828800" cy="304920"/>
            </a:xfrm>
            <a:prstGeom prst="ellipse">
              <a:avLst/>
            </a:pr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523880" y="1828800"/>
            <a:ext cx="594360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</a:t>
            </a:r>
            <a:r>
              <a:rPr b="0" lang="en-US" sz="4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q = Σ</a:t>
            </a:r>
            <a:r>
              <a:rPr b="0" lang="en-US" sz="4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WP</a:t>
            </a:r>
            <a:r>
              <a:rPr b="0" lang="en-US" sz="4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 </a:t>
            </a:r>
            <a:r>
              <a:rPr b="0" lang="en-US" sz="4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US" sz="4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600200" y="380880"/>
            <a:ext cx="5715000" cy="6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issioni di CO</a:t>
            </a:r>
            <a:r>
              <a:rPr b="1" lang="it-IT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q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3352680"/>
            <a:ext cx="8610480" cy="28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v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q   si calcola e si mette in tabella inquinan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WP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si prende dalla tabella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TENZ_INQ_AGG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it-IT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 emissione dell’inquinante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er ogni attività comune e combustibile; si prende da taboutpu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228600"/>
            <a:ext cx="8229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issioni di Precursori dell’ozono (REC_O</a:t>
            </a:r>
            <a:r>
              <a:rPr b="1" lang="it-IT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523880" y="1828800"/>
            <a:ext cx="594360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C_O</a:t>
            </a:r>
            <a:r>
              <a:rPr b="0" lang="en-US" sz="4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Σ</a:t>
            </a:r>
            <a:r>
              <a:rPr b="0" lang="en-US" sz="4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P</a:t>
            </a:r>
            <a:r>
              <a:rPr b="0" lang="en-US" sz="4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 </a:t>
            </a:r>
            <a:r>
              <a:rPr b="0" lang="en-US" sz="4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US" sz="4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3581280"/>
            <a:ext cx="8610480" cy="28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v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C_O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si calcola e si mette in tabella inquinan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P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si prende dalla tabella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TENZ_INQ_AGG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it-IT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 emissione dell’inquinante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er ogni attività comune e combustibile; si prende da taboutpu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85800" y="2286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issioni di Sostanze acidificanti (H+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523880" y="1828800"/>
            <a:ext cx="594360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+ = Σ</a:t>
            </a:r>
            <a:r>
              <a:rPr b="0" lang="en-US" sz="4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</a:t>
            </a:r>
            <a:r>
              <a:rPr b="0" lang="en-US" sz="4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n-US" sz="4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US" sz="4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920" y="3581280"/>
            <a:ext cx="8610480" cy="28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v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+  si calcola e si mette in tabella inquinan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si prende dalla tabella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TENZ_INQ_AGG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it-IT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 emissione dell’inquinante 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er ogni attività comune e combustibile; si prende da taboutpu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695680" y="23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969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esempio di coefficienti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 inseriti nella tabella 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TENZ_INQ_AGG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905120" y="1389240"/>
            <a:ext cx="5943600" cy="53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695680" y="23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216000"/>
            <a:ext cx="9144000" cy="64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coefficienti tengono conto della necessità di conversione delle unità di misur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tà di misura (tab. inquinant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croinquinant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1" lang="it-IT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NO</a:t>
            </a:r>
            <a:r>
              <a:rPr b="1" lang="it-IT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H</a:t>
            </a:r>
            <a:r>
              <a:rPr b="1" lang="it-IT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O, N</a:t>
            </a:r>
            <a:r>
              <a:rPr b="1" lang="it-IT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, NH</a:t>
            </a:r>
            <a:r>
              <a:rPr b="1" lang="it-IT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M2.5, PM10, PTS : t/an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kt/an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oinquinant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alli pesanti, acidi, F-gas : kg/an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OX : g/an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quinanti aggregat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q, H+ : kt/an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C_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t/an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52280" y="533520"/>
            <a:ext cx="8763120" cy="56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Le fonti bibliografiche utilizzati per i coefficienti son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GWP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U.S. Environmental Protection Agency (EPA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http://epa.gov/nonco2/econ-inv/table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Prec_O</a:t>
            </a:r>
            <a:r>
              <a:rPr b="1" lang="it-IT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e H+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De Leeuw F. (2002) A set of emission indicators for long-range transboundary air pollution, Environmental Science &amp; Policy 5 (2002) 135-1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2286000"/>
            <a:ext cx="8229600" cy="28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cludendo gli F-gas, l’emissione di CO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q sarà data dalle emissioni di CO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emissioni di CH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oltiplicate per 0.021 + emissioni di N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moltiplicate per 0.3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 valore inserito di GWP del CH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0.021) comprende già la conversione delle unità di misura: l’emissione di CH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è in t/anno; quella di C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q in kt/anno, di conseguenza il GWP reale di 21 è inserito Inemar pari a 0.021 (21/1000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152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esempio di calco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1295280"/>
            <a:ext cx="8305920" cy="8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 i tre inquinanti CO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H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 N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, i GWP sono rispettivamente 1, 0.021 e 0.3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4952880"/>
            <a:ext cx="8381880" cy="17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le emissioni di CO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ono 100 kt/anno, quelle di CH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50 t/anno, quelle di N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10 t/anno, le emissioni di CO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q sono date d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q = 100  * 1 kt/anno + 0.021 * 50 kt/anno + 10 * 0.31 kt/anno = 104.2 kt/ann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609480" y="1522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tabella POTENZ_INQ_AGG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3049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rcRect l="0" t="8333" r="38281" b="34375"/>
          <a:stretch/>
        </p:blipFill>
        <p:spPr>
          <a:xfrm>
            <a:off x="533520" y="1036800"/>
            <a:ext cx="7924680" cy="55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MORETTI</cp:lastModifiedBy>
  <dcterms:modified xsi:type="dcterms:W3CDTF">2006-05-09T13:18:49Z</dcterms:modified>
  <cp:revision>67</cp:revision>
  <dc:subject/>
  <dc:title>PowerPoint Presentation</dc:title>
</cp:coreProperties>
</file>