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FF55-EDB0-4CD9-87EB-3D2581CA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1EFF-E69F-4991-8B55-9EB21431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E6D-6A16-4226-91D0-062AAA12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D70-A3C4-4BDE-A82C-F4777049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3BF-6B82-42A1-B533-56EAA65A7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9AA9-7601-4CF5-9E91-11D2E983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54B-C696-4FE2-BB63-FD8AACC9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EB8-C384-4CCD-AC80-ED7C4D4E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5E8-13EB-47FB-A6D1-4363D1A4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9D0-980F-4936-85CD-A9D06055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C01-FB51-450C-B420-3042A331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167-2233-4DDD-8104-30810856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9AF2-8ECC-4104-A435-A98DA16964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765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lgoritmo consiste in una sommatoria, che moltiplica le emissioni degli inquinanti per cui è presente un valore del coefficiente per il corrispondente coeffic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722840"/>
            <a:ext cx="4800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i oz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Prec_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anze acidificanti (H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quinanti calcolati 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ER LA STIMA DELLE 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295280"/>
            <a:ext cx="8076960" cy="5403960"/>
            <a:chOff x="533520" y="1295280"/>
            <a:chExt cx="8076960" cy="5403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7970" b="23960"/>
            <a:stretch/>
          </p:blipFill>
          <p:spPr>
            <a:xfrm>
              <a:off x="533520" y="1295280"/>
              <a:ext cx="8076960" cy="540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" y="4343400"/>
              <a:ext cx="18288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880"/>
            <a:ext cx="5715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CO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Precursori dell’ozono (REC_O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812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Sostanze acidificanti (H+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81280"/>
            <a:ext cx="8610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oeffici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inseriti nella tab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389240"/>
            <a:ext cx="5943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6000"/>
            <a:ext cx="914400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efficienti tengono conto della necessità di conversione delle unità di mi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à di misura (tab. inquina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M2.5, PM10, PTS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 pesanti, acidi, F-gas : k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X : 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nti aggreg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, H+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onti bibliografiche utilizzati per i coefficien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WP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.S. Environmental Protection Agency (E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ttp://epa.gov/nonco2/econ-inv/tab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_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 H+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 Leeuw F. (2002) A set of emission indicators for long-range transboundary air pollution, Environmental Science &amp; Policy 5 (2002) 135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ludendo gli F-gas, l’emission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arà data dal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missioni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tiplicate per 0.021 + emissioni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ltiplicate per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inserito di GWP del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021) comprende già la conversione delle unità di misura: l’emissione di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in t/anno; quella di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 in kt/anno, di conseguenza il GWP reale di 21 è inserito Inemar pari a 0.021 (21/1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3059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 tre inquinant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i GWP sono rispettivamente 1, 0.021 e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83818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100 kt/anno, quelle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t/anno, quelle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 t/anno,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ono date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100  * 1 kt/anno + 0.021 * 50 kt/anno + 10 * 0.31 kt/anno = 104.2 kt/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bella POTENZ_INQ_AGG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3" r="38281" b="34375"/>
          <a:stretch/>
        </p:blipFill>
        <p:spPr>
          <a:xfrm>
            <a:off x="533520" y="1036800"/>
            <a:ext cx="79246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6-05-09T13:18:49Z</dcterms:modified>
  <cp:revision>67</cp:revision>
  <dc:subject/>
  <dc:title>PowerPoint Presentation</dc:title>
</cp:coreProperties>
</file>