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EA3-EB4C-4516-B478-CC9813B4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BAF-E064-42FD-BAB5-C5BBEA10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A90-B0F1-4E5F-A8BC-D6DC0432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A79-8A93-42E2-A1A7-34A771A0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CDC-8725-471C-8E07-D30014DF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B4F-4E80-496B-8B57-22A1A56F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6D7-4C50-4683-AF7B-93E24490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FAC-C854-48E2-BCAC-8D400B30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46A-43F8-4BFB-8DDA-73DBF854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CE3-6838-4B8D-9555-5044C26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CC7-C0C4-4351-B17F-0A3DB8E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FE4D-428D-4DB3-BD12-1C3B98EC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E65E-1827-4C49-9CA0-15322A0A8F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3760" y="2487600"/>
            <a:ext cx="8834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2400" y="5486400"/>
            <a:ext cx="503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6852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66400" y="3275280"/>
            <a:ext cx="71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Il modulo delle emissioni diff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:\Documents and Settings\AFRACCAROLI\Documenti\Immagini\logo.bmp"/>
          <p:cNvPicPr/>
          <p:nvPr/>
        </p:nvPicPr>
        <p:blipFill>
          <a:blip r:embed="rId2"/>
          <a:stretch/>
        </p:blipFill>
        <p:spPr>
          <a:xfrm>
            <a:off x="5791320" y="228600"/>
            <a:ext cx="31147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92120" y="990720"/>
            <a:ext cx="8159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Sono reperibili in letteratura numerosi dati di fattori di emissione.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I dati sono riportati in funzione del tipo di impianto, del combustibile e delle tecnologie di depurazione dei fu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04280" y="3048120"/>
            <a:ext cx="64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Europei (Corinair, EEA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reports.eea.eu.int/EMEPCORINAIR/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835280" y="548640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USA (EPA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www.epa.gov/ttn/chief/ei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04880" y="42670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medi italiani (APAT, Regioni, ARPE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 http://www.sinanet.apat.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0666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fattori di emissione inseriti nel database sono individuati dai seguenti ca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quin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Unità di misura (num. e den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Tecnolog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Sistema di abbat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Fo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Va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Priorità (0 – 1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valore 1 utilizzato da 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Inemar per le s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0" t="0" r="10155" b="18753"/>
          <a:stretch/>
        </p:blipFill>
        <p:spPr>
          <a:xfrm>
            <a:off x="152280" y="6858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rcRect l="0" t="0" r="17188" b="8333"/>
          <a:stretch/>
        </p:blipFill>
        <p:spPr>
          <a:xfrm>
            <a:off x="762120" y="25236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11721" b="8333"/>
          <a:stretch/>
        </p:blipFill>
        <p:spPr>
          <a:xfrm>
            <a:off x="609480" y="339840"/>
            <a:ext cx="8077320" cy="62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rcRect l="0" t="0" r="15626" b="8333"/>
          <a:stretch/>
        </p:blipFill>
        <p:spPr>
          <a:xfrm>
            <a:off x="762120" y="243000"/>
            <a:ext cx="77724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0" r="13282" b="8333"/>
          <a:stretch/>
        </p:blipFill>
        <p:spPr>
          <a:xfrm>
            <a:off x="609480" y="225360"/>
            <a:ext cx="807732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7" descr="C:\Convegni\2000\PRQA 1 12 2000\campo.jpg"/>
          <p:cNvPicPr/>
          <p:nvPr/>
        </p:nvPicPr>
        <p:blipFill>
          <a:blip r:embed="rId1"/>
          <a:stretch/>
        </p:blipFill>
        <p:spPr>
          <a:xfrm>
            <a:off x="2895480" y="2438280"/>
            <a:ext cx="3367080" cy="32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8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Verdana"/>
              </a:rPr>
              <a:t>Emissioni diff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609480" y="1066680"/>
            <a:ext cx="8364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Verdana"/>
              </a:rPr>
              <a:t>Emissioni stimate tramite dati statistic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C:\Convegni\2000\PRQA 1 12 2000\LEGBNA.JPG"/>
          <p:cNvPicPr/>
          <p:nvPr/>
        </p:nvPicPr>
        <p:blipFill>
          <a:blip r:embed="rId2"/>
          <a:stretch/>
        </p:blipFill>
        <p:spPr>
          <a:xfrm>
            <a:off x="76320" y="243828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C:\Convegni\2000\PRQA 1 12 2000\ASFALTATURA.jpg"/>
          <p:cNvPicPr/>
          <p:nvPr/>
        </p:nvPicPr>
        <p:blipFill>
          <a:blip r:embed="rId3"/>
          <a:stretch/>
        </p:blipFill>
        <p:spPr>
          <a:xfrm>
            <a:off x="6426360" y="2438280"/>
            <a:ext cx="3251160" cy="333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2"/>
          <p:cNvSpPr/>
          <p:nvPr/>
        </p:nvSpPr>
        <p:spPr>
          <a:xfrm>
            <a:off x="0" y="1752480"/>
            <a:ext cx="9448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missione = A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33"/>
          <p:cNvGrpSpPr/>
          <p:nvPr/>
        </p:nvGrpSpPr>
        <p:grpSpPr>
          <a:xfrm>
            <a:off x="685800" y="2232360"/>
            <a:ext cx="4914000" cy="4317120"/>
            <a:chOff x="685800" y="2232360"/>
            <a:chExt cx="4914000" cy="4317120"/>
          </a:xfrm>
        </p:grpSpPr>
        <p:sp>
          <p:nvSpPr>
            <p:cNvPr id="54" name="AutoShape 1034"/>
            <p:cNvSpPr/>
            <p:nvPr/>
          </p:nvSpPr>
          <p:spPr>
            <a:xfrm rot="1956600">
              <a:off x="4800240" y="2286000"/>
              <a:ext cx="533520" cy="1143000"/>
            </a:xfrm>
            <a:prstGeom prst="downArrow">
              <a:avLst>
                <a:gd name="adj1" fmla="val 50000"/>
                <a:gd name="adj2" fmla="val 5355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35"/>
            <p:cNvSpPr/>
            <p:nvPr/>
          </p:nvSpPr>
          <p:spPr>
            <a:xfrm>
              <a:off x="685800" y="3657600"/>
              <a:ext cx="4114800" cy="28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Indicatore di attiv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: consumi di combustibile, produzione di materiali, superficie coltivata, consumo di materie prime, numero di capi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036"/>
          <p:cNvGrpSpPr/>
          <p:nvPr/>
        </p:nvGrpSpPr>
        <p:grpSpPr>
          <a:xfrm>
            <a:off x="5181480" y="2226240"/>
            <a:ext cx="4495680" cy="4132800"/>
            <a:chOff x="5181480" y="2226240"/>
            <a:chExt cx="4495680" cy="4132800"/>
          </a:xfrm>
        </p:grpSpPr>
        <p:sp>
          <p:nvSpPr>
            <p:cNvPr id="57" name="Text Box 1037"/>
            <p:cNvSpPr/>
            <p:nvPr/>
          </p:nvSpPr>
          <p:spPr>
            <a:xfrm>
              <a:off x="5181480" y="3657600"/>
              <a:ext cx="4495680" cy="270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Fattore di emiss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Verdana"/>
                </a:rPr>
                <a:t>emissione riferita all'unità di attività della sor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. quantità di inquinante emesso per unità di combustibile consumato, per unità di superficie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38"/>
            <p:cNvSpPr/>
            <p:nvPr/>
          </p:nvSpPr>
          <p:spPr>
            <a:xfrm rot="20401200">
              <a:off x="6048720" y="2286000"/>
              <a:ext cx="552240" cy="1143000"/>
            </a:xfrm>
            <a:prstGeom prst="downArrow">
              <a:avLst>
                <a:gd name="adj1" fmla="val 50000"/>
                <a:gd name="adj2" fmla="val 5174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at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1828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belle: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tori (produzioni, cons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ariabili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uni e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bus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crosettore Settor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838080"/>
            <a:ext cx="84582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agini presso circa 70 diversi enti, associazioni, aziende (ricerca dati sui siti web o presso altri uffici – ARPA, Reg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produ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icavati da enti e associazioni di categoria tra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derchimica, Assomet, Federacciai, Federalimentare,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ovetro, Assocarta, Cepe, Bollettino Petrolifero, S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sta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onti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4724280"/>
            <a:ext cx="3657600" cy="9144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495680" y="51055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5791320"/>
            <a:ext cx="3200400" cy="609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95680" y="58672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rchivio cave, M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ner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94360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9436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gricoltura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4495680" y="4267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91440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certezz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 connesse con l’utilizzo degli indic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914400" y="1676520"/>
            <a:ext cx="73152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sso il dato fornito dalle associazioni è disponibile solo a livell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aggregazione attraverso le variabili surrogate (proxy) per ottenere un dato regionale e successivamente uno provinciale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rtezza legata alla rappresentatività delle variabili surrogate (I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chivio ASIA (add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umi comunali di met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/>
          <p:cNvSpPr/>
          <p:nvPr/>
        </p:nvSpPr>
        <p:spPr>
          <a:xfrm>
            <a:off x="441972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10960" y="228600"/>
            <a:ext cx="8510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isaggregazione spaziale 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partire un dato di emissione stimato ad un livello territoriale aggregato (regione o nazione) ad una porzione di territorio in esso compreso, ad esempio una provincia o un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62120" y="2514600"/>
            <a:ext cx="759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Verdana"/>
              </a:rPr>
              <a:t>variabili surrogate (proxy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:  indicatori ritenuti in grado di rappresentare la distribuzione del “peso” delle diverse emissioni n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708200" cy="98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22280" y="5105520"/>
            <a:ext cx="80182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loc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tot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nazionale - reg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1523880"/>
            <a:ext cx="80773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prodotti da forno (torte, pasticceria, biscotti…)    SNAP 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taliana 2003 (fonte AIDI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2600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naz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812 e 15820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8762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Lombard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073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n Lombardi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972600 * 9073 / 58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50172 t  = indicator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6019920"/>
            <a:ext cx="129528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66688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gionale - provinci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1676520"/>
            <a:ext cx="815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vino      SNAP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Produzione in Lombardia 2003 (fonte ISTAT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853183 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reg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931 e 15932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7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provincia di Pav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11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Vino prodotto (PV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853183 * 211 / 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84260 hl  = indicator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740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2120" y="6019920"/>
            <a:ext cx="1066680" cy="459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ità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82296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maggior parte degli indicatori utilizzati è espresso con le seguenti unità di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nnellate (t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duzioni e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ttari (h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tivazioni, foreste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tà (-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umero di capi, abitan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Eccezione per tutte le attività dipendenti dai combust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Gigajoule (G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CI nella tabella COMBUST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4419720"/>
            <a:ext cx="845820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02:38Z</dcterms:created>
  <dc:creator>AFRACCAROLI</dc:creator>
  <dc:description/>
  <dc:language>en-US</dc:language>
  <cp:lastModifiedBy>PANTALEO ALESSANDRA</cp:lastModifiedBy>
  <dcterms:modified xsi:type="dcterms:W3CDTF">2017-04-28T08:44:07Z</dcterms:modified>
  <cp:revision>37</cp:revision>
  <dc:subject/>
  <dc:title>Presentazione di PowerPoint</dc:title>
</cp:coreProperties>
</file>