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5CCC-2541-4B90-BA19-41881FDE6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022D-E5F3-4400-954D-487C9524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3859-C433-4032-A799-DE5D2E3A3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7DBD-F175-4FA9-9E12-01813004D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41C9-C9AF-43DD-9093-965702AA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6ABB-1B69-41B5-B7BA-A79C1804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5BD5-FFB8-4865-90D0-D2DE8ADF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6FE0-8CB8-4264-AAAB-9F591FE4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677A-230C-4319-9C6E-7911D31C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70FC-A8B7-492D-8735-00C56FB8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B6AB-8743-415F-B25A-460AC499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35CE-E0E4-467F-9BF4-59C86C3C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A9B9-371C-4396-A245-8C24B41C6F4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295280" cy="1263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166480"/>
            <a:ext cx="914400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cc"/>
                </a:solidFill>
                <a:latin typeface="Times New Roman"/>
              </a:rPr>
              <a:t>INEM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cc"/>
                </a:solidFill>
                <a:latin typeface="Times New Roman"/>
              </a:rPr>
              <a:t>Inventario emission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Times New Roman"/>
              </a:rPr>
              <a:t>Versione 5_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l Modulo export dati puntual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er modellist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172200" y="152280"/>
            <a:ext cx="2752560" cy="914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16000" y="235080"/>
            <a:ext cx="71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MISSIONI DI POLVERI DA GRANULOME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1182600"/>
            <a:ext cx="8066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modulo polveri fini prende i dati dal modulo puntuali per attività SNAP senza dettaglio di linea, e li scrive nella tabe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AB_OUTPUT_DETT_P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È quindi necessario che gli stessi algoritmi siano utilizzati per associare alle linee e ai camini le emissioni da granulometria, in modo simile a quanto sopra esposto per le emissioni puntuali stim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algoritmo si differenzia per due possibili cas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primo si basa sulle emissioni misura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secondo sulle emissioni stimate da fattori di emiss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489040" y="189000"/>
            <a:ext cx="38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) EMISSIONI MIS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905760"/>
            <a:ext cx="8431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ogni linea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per ogni associazione di attività SNAP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t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quinant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nq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combustibil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a partire dall’emissione misurata di PTS, l’emissione che il sistema dovrà calcolare in ogni caso sarà data d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95280" y="2992320"/>
                <a:ext cx="820908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PM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P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TS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rc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s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t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q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mb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396720" y="3641400"/>
            <a:ext cx="8352000" cy="17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ov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perc_dist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att,inq,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è la percentuale granulometrica per l’attività SNAP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t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l’inquinant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nq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il combustibil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ad esempio: attività 1.1.2, PM2.5, olio combustibi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3120" y="1010520"/>
            <a:ext cx="873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lla maggior parte dei casi le emissioni misurate riguardano il P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valori percentuali riportati nella tabella DIST_POLVERI sono gi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iferite a questo inquinante e la stima di tutti gli altri si effettua applicando l’algoritmo di cui sop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3600" y="2820960"/>
            <a:ext cx="832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ll’eventualità che l’emissione misurata riguardi invece il PM1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è necessario applicare il seguente algorit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50720" y="4044960"/>
                <a:ext cx="829800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PM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P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d</m:t>
                    </m:r>
                    <m:r>
                      <m:t xml:space="preserve">=</m:t>
                    </m:r>
                    <m:r>
                      <m:t xml:space="preserve">9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c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s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tt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inq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mb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c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s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tt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mb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M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424080" y="5192640"/>
            <a:ext cx="82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ripartizione di queste emissioni per camino è del tutto iden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 quanto descritto per le emissioni puntuali stimate, sostitue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ogni caso EPS con EPM_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43960" y="189000"/>
            <a:ext cx="48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) EMISSIONI MISURATE (seg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788560" y="235080"/>
            <a:ext cx="36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b) EMISSIONI ST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7960" y="978480"/>
            <a:ext cx="8806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e non ci sono emissioni misurate di particolato (ID = 9, 10, 3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d eventualmente in futuro altri), ed è presente soltanto il FE del PT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sistema deve comunque essere in grado di stimare le emissioni p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inea di PM10, PM2.5 e via discorren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algoritmo da utilizzare in questo caso è il segu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24000" y="3300480"/>
                <a:ext cx="84960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PS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F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TS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rc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s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t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q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mb</m:t>
                            </m:r>
                          </m:sub>
                        </m:sSub>
                      </m:sub>
                    </m:sSub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424080" y="4222440"/>
            <a:ext cx="82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ripartizione di queste emissioni per camino è del tutto iden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 quanto descritto per le emissioni puntuali stimate, sostitue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ogni caso EPS con EPS_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0" t="7481" r="0" b="12502"/>
          <a:stretch/>
        </p:blipFill>
        <p:spPr>
          <a:xfrm>
            <a:off x="108000" y="1233360"/>
            <a:ext cx="8928000" cy="5357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048040" y="260280"/>
            <a:ext cx="468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Query di decodifica della base d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6640" y="11592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sempio di risultati: emissioni di NOx ripartite per linea e cami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80" y="836640"/>
            <a:ext cx="91249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16344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STRAZIONE DATI PUNTUALI PER MODELLI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6560" y="1012680"/>
            <a:ext cx="835344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e emissioni misurate per macrosettore, settore, attività, linea e camino si trovano nella tabe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UNTUALI_ RIASSUNTO_MSAL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questa tabella sono presenti solo le emissioni PM, ossia quelle misurate ai camini e stimate dal run PUNTUALI MISU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Quando si inseriscono i dati di emissioni ai camini tramite l’interfaccia Inemar, la tabella in questione viene compilata automaticamente per un certo numero di inquinan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È ora necessaria una procedura, che permetta di attribuire alle linee e ai camini anche quelle emissioni PS, che sono già stimate dal sistema con il run “Puntuali stimate” tramite l’algoritmo che moltiplica gli indicatori di attività presenti per linea e i fattori di emissione per l’attività (e combustibile) di cui la linea fa pa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4360" y="114840"/>
            <a:ext cx="80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Il modulo deve produrre i risultati totali (PM e PS) nella tabella P_RIASSUNTO_ST_AT_COMB_L_C, contenente i seguenti camp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384200"/>
            <a:ext cx="3814920" cy="32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imes New Roman"/>
              </a:rPr>
              <a:t>CAMPI CHIAVE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D_STAB (da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STAT_COMUNE (da 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TARGA (da TARGA_PROVINCIA sulla base del link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D_ATT (da SNAP_ATTIVIT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D_COMBUSTIBILE (da COMBUSTIBILI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D_INQUINANTE (da INQUINANTI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D_LINEA (da P_LINE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D_CAMINO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TIPO EMISSION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88000" y="1251000"/>
            <a:ext cx="391644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imes New Roman"/>
              </a:rPr>
              <a:t>ALTRI CAMPI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ANNO_CENSIMENTO (da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DENOMINAZIONE (da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H_SLM (da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LATITUDINE (da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LONGITUDINE (da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PRG_CAMINO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SIGLA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ALTEZZA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DIAMETRO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TEMPERATURA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PORTATA_SECCHI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PORTATA_UMIDI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O2_RIF_FUMI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O2_EFF_FUMI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UMIDITA_FUMI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ORE FUNZIONAMENTO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NOME (da P_LINE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CODICE_LINEA (da P_LINE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VALORE_INDICATORE (da P_LINE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EMISSIONE (da P_EMISSIONE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55640" y="15444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TEP 1: CALCOLO DELLE EMISSIONI PER LI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87120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ogni linea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per ogni associazione di attività SNAP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t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inquinant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nq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combustibil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l’emissione che il sistema dovrà calcolare in ogni caso sarà data 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900000" y="2349360"/>
                <a:ext cx="655164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PS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-63000" y="3577680"/>
            <a:ext cx="9352440" cy="24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ov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è l’indicatore dell’attività SNAP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t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per la linea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il combustib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ad esempio: attività 1.1.2, linea 1 metan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att,inq,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è il fattore di emissione per l’attività a cui appartie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linea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l’inquinant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nq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il combustibil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0920" y="1016280"/>
            <a:ext cx="8569080" cy="53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realtà si tratta di un conto già fatto nell’algoritmo PUNTUA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IM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fatti PUNTUALI_INTERMEDI non ha dettaglio per line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sistema somma automaticamente tutti gli indicatori per attività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mbustibile, poi applica l’algoritmo per la stima delle emissioni P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ra, se si utilizzasse questo dato di emissione e si cercasse di attribuirlo ai singoli camini sorgerebbero difficoltà qualora a un’attività corrispondessero più linee che utilizzano lo stesso combustibi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alcolare l’emission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PS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l,att,inq,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direttamente è concettualmente più semplice ed evita di dover applicare una disaggregazione per linea dell’emissione PS scritta in PUNTUALI_INTERMEDI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15444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TEP 1: CALCOLO DELLE EMISSIONI PER LINEA (seg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1544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TEP 2: ATTRIBUZIONE DELLE EMISSIONI AL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7880" y="985320"/>
            <a:ext cx="84268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È necessario ora attribuire questa emission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PS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l,att,inq,comb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 cami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 ai camini nel caso che le emissioni di una linea fossero colleg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 più camini, o quelle di più linee convogliate in un unico cami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informazione contenuta da P_LINEA_CAMIN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60480" y="3187800"/>
            <a:ext cx="6951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fare questo si deve innanzitutto distinguere tre ca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) UNA LINEA CON UN SOLO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b) PIÙ LINEE CON UN SOLO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) UNA LINEA CON PIÙ CAM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81920" y="1171440"/>
            <a:ext cx="577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) UNA LINEA CON UN SOLO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0400" y="1746000"/>
            <a:ext cx="81907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una certa attività, è presente nello stabilimento una sola lin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 un solo cami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emission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PS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l,att,inq,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va scritta direttamente nella tabe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_RIASSUNTO_ST_AT_COMB_L_C e associata al cami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56720" y="3979800"/>
            <a:ext cx="56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b) PIÙ LINEE CON UN SOLO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1400" y="4579200"/>
            <a:ext cx="825948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una o più attività, sono presenti nello stabilimento più lin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he convogliano i fumi in un solo cami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nche in questo caso l’emission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PS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l,att,inq,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va scrit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rettamente nella tabella P_RIASSUNTO_ST_AT_COMB_L_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 associata al cami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6560" y="15444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METODOLOGIE DI ATTRIBU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169720" y="189000"/>
            <a:ext cx="480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) UNA LINEA CON PIÙ CAM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7840" y="934560"/>
            <a:ext cx="8785080" cy="57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Per una certa attività, è presente nello stabilimento una linea con più camini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In questo caso occorre applicare la disaggregazione per camin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i prendano tutti i camini associati ad una data line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Questi si trovano nella tabella P_CAMINO, e l’associazione alla linea è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pecificata nella tabella P_LINEA_CAMIN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i prenda il valore del campo PORTATA_SECCHI in P_CAM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e lo si moltiplichi per il valore del campo ORE_FUNZIONAMENTO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empre nella stessa tabell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i chiami questo valore VOLUME_FUMI_ANNU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i sommino i valori di VOLUME_FUMI_ANNUI per tutti i camin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collegati a una certa linea, chiamando la somm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OMMA_VOLUME_FUMI_ANNUI_LINE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Ad ogni camino si associ un numero ottenuto dividendo il propri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VOLUME_FUMI_ANNUI per SOMMA_VOLUME_FUMI_LINE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i chiami questo numero COEFF_RIPARTIZION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122840" y="189000"/>
            <a:ext cx="70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) UNA LINEA CON PIÙ CAMINI - ALGORIT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720" y="849960"/>
            <a:ext cx="7340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L’algoritmo può essere espresso sinteticamente in questo mod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03280" y="1413000"/>
                <a:ext cx="77407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PS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PS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EFF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PARTIZION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468360" y="2246760"/>
            <a:ext cx="85327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Dov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EPS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Times New Roman"/>
              </a:rPr>
              <a:t>l,c,att,inq,comb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è l’emissione puntuale stimata della linea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e del camino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c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per l’attività SNAP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att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, l’inquinante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inq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e il combustibile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com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EPS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Times New Roman"/>
              </a:rPr>
              <a:t>l,att,inq,comb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è l’emissione puntuale stimata della linea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per l’attività SNAP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att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, l’inquinante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inq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e il combustibile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com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538200" y="4676760"/>
                <a:ext cx="71294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EFF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PARTIZION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OLUME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UMI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NNUI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c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OLUME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UMI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NNUI</m:t>
                                        </m:r>
                                      </m:e>
                                      <m:sub>
                                        <m:r>
                                          <m:t xml:space="preserve">c</m:t>
                                        </m:r>
                                      </m:sub>
                                    </m:sSub>
                                  </m:sub>
                                </m:sSub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39640" y="5948280"/>
                <a:ext cx="828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OLUME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UMI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NNU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ORTATA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CCH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RE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UNZIONAMENTO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MORETTI</cp:lastModifiedBy>
  <dcterms:modified xsi:type="dcterms:W3CDTF">2007-04-17T13:25:50Z</dcterms:modified>
  <cp:revision>157</cp:revision>
  <dc:subject/>
  <dc:title>PowerPoint Presentation</dc:title>
</cp:coreProperties>
</file>