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693-CD3D-4920-A2C7-F73DBC3A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BF8-D026-4B87-9E91-EC0A6AA0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122-374F-4FB2-BF5E-40960767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CC0-0EEC-4B99-97D1-D538F241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402-5295-48B8-BB9A-B1D930AF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5BD-B2E1-44B1-AB12-0B1266CC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648-B010-424E-83CD-0D82B341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36E-E79B-4C31-A166-24EC6E18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91C-A90D-4EEB-B3B6-D0114608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2D2-8CE6-4F62-8B46-082C805C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646-5331-438D-93AC-3928A69E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9B5-68DD-4C58-AF68-1EE056C4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2A58-F80E-4631-A1B4-8BC82F4C5A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166480"/>
            <a:ext cx="914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xport dati puntu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modelli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235080"/>
            <a:ext cx="71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DI POLVERI DA GRANULO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826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polveri fini prende i dati dal modulo puntuali per attività SNAP senza dettaglio di linea, e li scriv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_OUTPUT_DETT_P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quindi necessario che gli stessi algoritmi siano utilizzati per associare alle linee e ai camini le emissioni da granulometria, in modo simile a quanto sopra esposto per le emissioni puntuali 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si differenzia per due possibili ca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si basa sulle emissioni misu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sulle emissioni stimate da fattori di emis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89040" y="1890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905760"/>
            <a:ext cx="84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 partire dall’emissione misurata di PTS, l’emissione che il sistema dovrà calcolare in ogni caso sarà data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5280" y="2992320"/>
                <a:ext cx="8209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96720" y="3641400"/>
            <a:ext cx="8352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c_dis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a percentuale granulometrica per 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PM2.5, olio combustib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3120" y="1010520"/>
            <a:ext cx="87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maggior parte dei casi le emissioni misurate riguardano il P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valori percentuali riportati nella tabella DIST_POLVERI sono gi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ferite a questo inquinante e la stima di tutti gli altri si effettua applicando l’algoritmo di cui so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282096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eventualità che l’emissione misurata riguardi invece il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applicare il seguente algorit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720" y="4044960"/>
                <a:ext cx="8298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q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4080" y="51926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M_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3960" y="189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88560" y="235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EMISSIONI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" y="978480"/>
            <a:ext cx="880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non ci sono emissioni misurate di particolato (ID = 9, 10, 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d eventualmente in futuro altri), ed è presente soltanto il FE del P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deve comunque essere in grado di stimare le emission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di PM10, PM2.5 e via discorre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da utilizzare in questo caso è il segu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3300480"/>
                <a:ext cx="8496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24080" y="42224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S_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481" r="0" b="12502"/>
          <a:stretch/>
        </p:blipFill>
        <p:spPr>
          <a:xfrm>
            <a:off x="108000" y="1233360"/>
            <a:ext cx="8928000" cy="535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48040" y="26028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ry di decodifica della base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640" y="11592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di risultati: emissioni di NOx ripartite per linea e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" y="836640"/>
            <a:ext cx="912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6344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TRAZIONE DATI PUNTUALI PER MODELL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6560" y="1012680"/>
            <a:ext cx="8353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misurate per macrosettore, settore, attività, linea e camino si trovano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NTUALI_ RIASSUNTO_MS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esta tabella sono presenti solo le emissioni PM, ossia quelle misurate ai camini e stimate dal run PUNTUALI MIS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si inseriscono i dati di emissioni ai camini tramite l’interfaccia Inemar, la tabella in questione viene compilata automaticamente per un certo numero di inqui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ora necessaria una procedura, che permetta di attribuire alle linee e ai camini anche quelle emissioni PS, che sono già stimate dal sistema con il run “Puntuali stimate” tramite l’algoritmo che moltiplica gli indicatori di attività presenti per linea e i fattori di emissione per l’attività (e combustibile) di cui la linea fa 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148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l modulo deve produrre i risultati totali (PM e PS) nella tabella P_RIASSUNTO_ST_AT_COMB_L_C, contenente i seguenti camp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84200"/>
            <a:ext cx="3814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AMPI CHIAV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STAB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STAT_COMUNE (da 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TARGA (da TARGA_PROVINCIA sulla base del lin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ATT (da SNAP_ATTIVIT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OMBUSTIBILE (da COMBUSTIBIL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INQUINANTE (da INQUINANT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IPO EMISS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51000"/>
            <a:ext cx="39164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LTRI CAMP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NNO_CENSIMENTO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ENOMINAZIO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H_SLM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AT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ONG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RG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SIGL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LTEZZ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IAMETR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EMPERATUR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SECCH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UMID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RI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EF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UMIDITA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RE FUNZIONAMENT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NOM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CODICE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VALORE_INDICATOR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EMISSIONE (da P_EMISSIO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544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8712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emissione che il sistema dovrà calcolare in ogni caso sarà data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00000" y="2349360"/>
                <a:ext cx="655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-63000" y="3577680"/>
            <a:ext cx="935244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’indicatore del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linea 1 meta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l fattore di emissione per l’attività a cui appar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16280"/>
            <a:ext cx="856908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realtà si tratta di un conto già fatto nell’algoritmo PUNTU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PUNTUALI_INTERMEDI non ha dettaglio per lin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somma automaticamente tutti gli indicatori per attività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bustibile, poi applica l’algoritmo per la stima delle emissioni 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a, se si utilizzasse questo dato di emissione e si cercasse di attribuirlo ai singoli camini sorgerebbero difficoltà qualora a un’attività corrispondessero più linee che utilizzano lo stesso combus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are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ettamente è concettualmente più semplice ed evita di dover applicare una disaggregazione per linea dell’emissione PS scritta in PUNTUALI_INTERMED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4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54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2: ATTRIBUZIONE DELLE EMISSIONI AL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880" y="985320"/>
            <a:ext cx="8426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ora attribuire questa 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ai camini nel caso che le emissioni di una linea fossero col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ù camini, o quelle di più linee convogliate in un unico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formazione contenuta da P_LINEA_CAMI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0480" y="3187800"/>
            <a:ext cx="695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deve innanzitutto distinguere tre c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81920" y="117144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400" y="1746000"/>
            <a:ext cx="819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sola li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direttament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_RIASSUNTO_ST_AT_COMB_L_C 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56720" y="397980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1400" y="4579200"/>
            <a:ext cx="8259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o più attività, sono presenti nello stabilimento più lin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convogliano i fumi in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in questo caso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rettamente nella tabella P_RIASSUNTO_ST_AT_COMB_L_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1544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TODOLOGIE DI AT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9720" y="1890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40" y="934560"/>
            <a:ext cx="8785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linea con più cami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questo caso occorre applicare la disaggregazione per cami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no tutti i camini associati ad una data 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esti si trovano nella tabella P_CAMINO, e l’associazione alla linea è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pecificata nella tabella P_LINEA_CAM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 il valore del campo PORTATA_SECCHI in P_CAM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lo si moltiplichi per il valore del campo ORE_FUNZION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mpre nella stessa tabel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valore VOLUME_FUMI_ANN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sommino i valori di VOLUME_FUMI_ANNUI per tutti i cami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llegati a una certa linea, chiamando la som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OMMA_VOLUME_FUMI_ANNU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 ogni camino si associ un numero ottenuto dividendo il prop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OLUME_FUMI_ANNUI per SOMMA_VOLUME_FUM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numero COEFF_RIPARTI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2840" y="18900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 -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849960"/>
            <a:ext cx="734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’algoritmo può essere espresso sinteticamente in questo mo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3280" y="1413000"/>
                <a:ext cx="77407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8360" y="2246760"/>
            <a:ext cx="853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c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del camin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8200" y="4676760"/>
                <a:ext cx="712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UM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NNU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LUM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UM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NUI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5948280"/>
                <a:ext cx="828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M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NU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RTAT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CH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R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NZIONAMENT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7-04-17T13:25:50Z</dcterms:modified>
  <cp:revision>157</cp:revision>
  <dc:subject/>
  <dc:title>PowerPoint Presentation</dc:title>
</cp:coreProperties>
</file>