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5DDD-DDDB-4FA0-8FA9-0D1453B7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AE07-8397-4CF2-B0FB-123FC8CE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6D97-8FC6-468D-B349-BFE63267B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E833-6ECB-49EA-8EEB-1033A0D7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4F71-D0BF-4D2D-ABDC-C34A068B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712F-5E1D-44DC-92F0-4768C7DA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606D-62FB-49CF-AEC3-6E6108F2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B047-A6C0-4924-B18E-EA93A591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434D-02DF-4211-B2D9-FA44DC78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BFEE-40AA-44F2-B657-4B5D4F8C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7986-680A-44C0-B268-C882FE8F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0998-E690-4F6A-AEC9-27C01979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46D4-4893-4E64-A5B4-10E03A6115D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1295280" cy="1263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166480"/>
            <a:ext cx="914400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Times New Roman"/>
              </a:rPr>
              <a:t>INEM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Times New Roman"/>
              </a:rPr>
              <a:t>Inventario emission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Versione 5_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Modulo export dati puntual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 modellistic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172200" y="152280"/>
            <a:ext cx="2752560" cy="91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16000" y="235080"/>
            <a:ext cx="71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MISSIONI DI POLVERI DA GRANULOME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182600"/>
            <a:ext cx="8066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modulo polveri fini prende i dati dal modulo puntuali per attività SNAP senza dettaglio di linea, e li scrive nella tab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AB_OUTPUT_DETT_P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quindi necessario che gli stessi algoritmi siano utilizzati per associare alle linee e ai camini le emissioni da granulometria, in modo simile a quanto sopra esposto per le emissioni puntuali stim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algoritmo si differenzia per due possibili cas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primo si basa sulle emissioni misur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secondo sulle emissioni stimate da fattori di emiss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489040" y="189000"/>
            <a:ext cx="38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) EMISSIONI MIS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905760"/>
            <a:ext cx="8431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ogni line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per ogni associazione di attività SNAP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quinant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combustibi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a partire dall’emissione misurata di PTS, l’emissione che il sistema dovrà calcolare in ogni caso sarà data d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95280" y="2992320"/>
                <a:ext cx="820908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M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P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TS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r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s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q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mb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396720" y="3641400"/>
            <a:ext cx="8352000" cy="17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o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erc_dist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la percentuale granulometrica per l’attività SNAP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l’inquinant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ad esempio: attività 1.1.2, PM2.5, olio combustibil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3120" y="1010520"/>
            <a:ext cx="873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a maggior parte dei casi le emissioni misurate riguardano il P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valori percentuali riportati nella tabella DIST_POLVERI sono gi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ferite a questo inquinante e la stima di tutti gli altri si effettua applicando l’algoritmo di cui sop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3600" y="2820960"/>
            <a:ext cx="832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’eventualità che l’emissione misurata riguardi invece il PM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necessario applicare il seguente algorit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50720" y="4044960"/>
                <a:ext cx="82980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M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P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d</m:t>
                    </m:r>
                    <m:r>
                      <m:t xml:space="preserve">=</m:t>
                    </m:r>
                    <m:r>
                      <m:t xml:space="preserve">9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c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s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tt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inq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mb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rc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is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tt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mb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M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424080" y="5192640"/>
            <a:ext cx="82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ripartizione di queste emissioni per camino è del tutto iden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quanto descritto per le emissioni puntuali stimate, sostitue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ogni caso EPS con EPM_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43960" y="189000"/>
            <a:ext cx="48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) EMISSIONI MISURATE (seg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788560" y="23508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) EMISSIONI ST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" y="978480"/>
            <a:ext cx="8806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 non ci sono emissioni misurate di particolato (ID = 9, 10, 3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d eventualmente in futuro altri), ed è presente soltanto il FE del PT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sistema deve comunque essere in grado di stimare le emissioni p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inea di PM10, PM2.5 e via discorren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algoritmo da utilizzare in questo caso è il segu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24000" y="3300480"/>
                <a:ext cx="84960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PM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F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TS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i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r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is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tt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q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mb</m:t>
                            </m:r>
                          </m:sub>
                        </m:sSub>
                      </m:sub>
                    </m:sSub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424080" y="4222440"/>
            <a:ext cx="82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ripartizione di queste emissioni per camino è del tutto iden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quanto descritto per le emissioni puntuali stimate, sostitue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ogni caso EPS con EPS_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0" t="7481" r="0" b="12502"/>
          <a:stretch/>
        </p:blipFill>
        <p:spPr>
          <a:xfrm>
            <a:off x="108000" y="1233360"/>
            <a:ext cx="8928000" cy="5357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048040" y="260280"/>
            <a:ext cx="46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Query di decodifica della base d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6640" y="11592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sempio di risultati: emissioni di NOx ripartite per linea e cami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80" y="836640"/>
            <a:ext cx="91249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16344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ESTRAZIONE DATI PUNTUALI PER MODELLI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6560" y="1012680"/>
            <a:ext cx="835344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 emissioni misurate per macrosettore, settore, attività, linea e camino si trovano nella tab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UNTUALI_ RIASSUNTO_MSAL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questa tabella sono presenti solo le emissioni PM, ossia quelle misurate ai camini e stimate dal run PUNTUALI MISU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uando si inseriscono i dati di emissioni ai camini tramite l’interfaccia Inemar, la tabella in questione viene compilata automaticamente per un certo numero di inquinan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ora necessaria una procedura, che permetta di attribuire alle linee e ai camini anche quelle emissioni PS, che sono già stimate dal sistema con il run “Puntuali stimate” tramite l’algoritmo che moltiplica gli indicatori di attività presenti per linea e i fattori di emissione per l’attività (e combustibile) di cui la linea fa par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4360" y="114840"/>
            <a:ext cx="80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Il modulo deve produrre i risultati totali (PM e PS) nella tabella P_RIASSUNTO_ST_AT_COMB_L_C, contenente i seguenti camp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384200"/>
            <a:ext cx="381492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CAMPI CHIAVE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STAB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STAT_COMUNE (da 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TARGA (da TARGA_PROVINCIA sulla base del link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ATT (da SNAP_ATTIVIT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COMBUSTIBILE (da COMBUSTIBILI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INQUINANTE (da INQUINANTI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LINEA (da P_LINE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FK_ID_CAMINO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TIPO EMISSION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88000" y="1251000"/>
            <a:ext cx="391644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00"/>
                </a:solidFill>
                <a:latin typeface="Times New Roman"/>
              </a:rPr>
              <a:t>ALTRI CAMPI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ANNO_CENSIMENTO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DENOMINAZIONE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H_SLM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LATITUDINE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LONGITUDINE (da P_STABILIMENT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PRG_CAMINO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SIGLA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ALTEZZA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DIAMETRO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TEMPERATURA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PORTATA_SECCH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PORTATA_UMID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O2_RIF_FUM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O2_EFF_FUM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UMIDITA_FUMI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ORE FUNZIONAMENTO (da P_CAMINO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NOME (da P_LINE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CODICE_LINEA (da P_LINE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VALORE_INDICATORE (da P_LINEA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Times New Roman"/>
              </a:rPr>
              <a:t>EMISSIONE (da P_EMISSION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55640" y="15444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EP 1: CALCOLO DELLE EMISSIONI PER LI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87120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ogni line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per ogni associazione di attività SNAP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inquinant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combustibi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l’emissione che il sistema dovrà calcolare in ogni caso sarà data 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900000" y="2349360"/>
                <a:ext cx="655164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-63000" y="3577680"/>
            <a:ext cx="9352440" cy="24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ov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l’indicatore dell’attività SNAP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per la line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ad esempio: attività 1.1.2, linea 1 metan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è il fattore di emissione per l’attività a cui appartie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linea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l’inquinant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0920" y="1016280"/>
            <a:ext cx="8569080" cy="53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realtà si tratta di un conto già fatto nell’algoritmo PUNTUA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IMA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fatti PUNTUALI_INTERMEDI non ha dettaglio per line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sistema somma automaticamente tutti gli indicatori per attività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bustibile, poi applica l’algoritmo per la stima delle emissioni P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ra, se si utilizzasse questo dato di emissione e si cercasse di attribuirlo ai singoli camini sorgerebbero difficoltà qualora a un’attività corrispondessero più linee che utilizzano lo stesso combustibi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alcolare l’emiss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irettamente è concettualmente più semplice ed evita di dover applicare una disaggregazione per linea dell’emissione PS scritta in PUNTUALI_INTERMEDI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5444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EP 1: CALCOLO DELLE EMISSIONI PER LINEA (seg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154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EP 2: ATTRIBUZIONE DELLE EMISSIONI AL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7880" y="985320"/>
            <a:ext cx="842688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necessario ora attribuire questa emiss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l cami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 ai camini nel caso che le emissioni di una linea fossero colleg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più camini, o quelle di più linee convogliate in un unico cami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informazione contenuta da P_LINEA_CAMIN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60480" y="3187800"/>
            <a:ext cx="695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fare questo si deve innanzitutto distinguere tre ca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) UNA LINEA CON UN SOLO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) PIÙ LINEE CON UN SOLO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) UNA LINEA CON PIÙ CAM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81920" y="1171440"/>
            <a:ext cx="57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) UNA LINEA CON UN SOLO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00400" y="1746000"/>
            <a:ext cx="8190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una certa attività, è presente nello stabilimento una sola lin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 un solo cami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emiss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va scritta direttamente nella tab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_RIASSUNTO_ST_AT_COMB_L_C e associata al cami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56720" y="3979800"/>
            <a:ext cx="56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) PIÙ LINEE CON UN SOLO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1400" y="4579200"/>
            <a:ext cx="825948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 una o più attività, sono presenti nello stabilimento più lin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he convogliano i fumi in un solo cami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nche in questo caso l’emissione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4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va scrit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rettamente nella tabella P_RIASSUNTO_ST_AT_COMB_L_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 associata al camin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6560" y="15444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ETODOLOGIE DI ATTRIB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169720" y="189000"/>
            <a:ext cx="48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) UNA LINEA CON PIÙ CAM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7840" y="934560"/>
            <a:ext cx="8785080" cy="57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Per una certa attività, è presente nello stabilimento una linea con più camini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In questo caso occorre applicare la disaggregazione per camin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prendano tutti i camini associati ad una data line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Questi si trovano nella tabella P_CAMINO, e l’associazione alla linea è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pecificata nella tabella P_LINEA_CAMIN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prenda il valore del campo PORTATA_SECCHI in P_CAM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e lo si moltiplichi per il valore del campo ORE_FUNZIONAMENT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empre nella stessa tabell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chiami questo valore VOLUME_FUMI_ANNU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sommino i valori di VOLUME_FUMI_ANNUI per tutti i camin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collegati a una certa linea, chiamando la som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OMMA_VOLUME_FUMI_ANNUI_LINE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Ad ogni camino si associ un numero ottenuto dividendo il propri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VOLUME_FUMI_ANNUI per SOMMA_VOLUME_FUMI_LINE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i chiami questo numero COEFF_RIPARTIZIO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22840" y="189000"/>
            <a:ext cx="70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) UNA LINEA CON PIÙ CAMINI - ALGORIT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720" y="849960"/>
            <a:ext cx="734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L’algoritmo può essere espresso sinteticamente in questo mod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03280" y="1413000"/>
                <a:ext cx="774072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PS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inq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omb</m:t>
                        </m:r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EFF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PARTIZION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468360" y="2246760"/>
            <a:ext cx="8532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Dov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Times New Roman"/>
              </a:rPr>
              <a:t>l,c,att,inq,comb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è l’emissione puntuale stimata della linea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e del camino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c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per l’attività SNAP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, l’inquinante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com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EPS</a:t>
            </a:r>
            <a:r>
              <a:rPr b="0" i="1" lang="it-IT" sz="2200" spc="-1" strike="noStrike" baseline="-25000">
                <a:solidFill>
                  <a:srgbClr val="000000"/>
                </a:solidFill>
                <a:latin typeface="Times New Roman"/>
              </a:rPr>
              <a:t>l,att,inq,comb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è l’emissione puntuale stimata della linea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per l’attività SNAP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att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, l’inquinante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inq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e il combustibile </a:t>
            </a:r>
            <a:r>
              <a:rPr b="0" i="1" lang="it-IT" sz="2200" spc="-1" strike="noStrike">
                <a:solidFill>
                  <a:srgbClr val="000000"/>
                </a:solidFill>
                <a:latin typeface="Times New Roman"/>
              </a:rPr>
              <a:t>com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38200" y="4676760"/>
                <a:ext cx="71294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EFF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IPARTIZION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UME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UMI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NNUI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sub>
                            </m:sSub>
                          </m:sub>
                        </m:sSub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c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OLUME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UMI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NNUI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</m:sub>
                                </m:sSub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39640" y="5948280"/>
                <a:ext cx="828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OLUME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UMI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NNU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ORTATA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CH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  <m:r>
                      <m:t xml:space="preserve">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RE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UNZIONAMENTO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MORETTI</cp:lastModifiedBy>
  <dcterms:modified xsi:type="dcterms:W3CDTF">2007-04-17T13:25:50Z</dcterms:modified>
  <cp:revision>157</cp:revision>
  <dc:subject/>
  <dc:title>PowerPoint Presentation</dc:title>
</cp:coreProperties>
</file>