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3873-9326-4173-8D06-DA3C6194A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70CB-8B19-422B-AEC3-8CDD5D02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9C5C-1181-4588-B577-71950AAB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4E7C-D284-4921-A1F9-302C6EDF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31D5-7871-4847-B85A-92A263E4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F1C5-21FC-4C20-94F9-27E98966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9762-64EC-4830-8F5F-E2142A55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C75F-B976-4440-81DE-2F690243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9B0F-6660-444D-AE09-B8466F43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EB56-4585-4730-B678-47857C87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5FEB-1AA2-40A4-B743-132B32D1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3B8F-FBEF-4BB7-9B80-DA7F5BF1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6CEB-7201-4E14-AFD4-17B1F5A6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7F10-75FB-44D8-B64F-99681BB2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4287-1F8E-4540-8276-73F2751D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6E39-A95C-4763-A232-450705543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DFEA-74C0-4759-883E-93A14A1BA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B3B3-FE79-423C-8550-A24A71FB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E5D6-BA7B-40AF-80DE-72072BAC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5011-13E3-427D-9FBD-58F0AD66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FB92-7B1A-4B4C-8EB6-E480E2EF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7A4A-E28A-4CF9-BC24-E43AA8DD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BCB2-27D9-4E5D-B4A5-D82E3ECB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E3DE-26E3-4CA1-8128-0A98E2F6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57A5-35B1-411F-BC88-C1CCE2271F94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9DEF-F7C9-45C2-BADB-04482F2E90B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c.europa.eu/environment/air/pdf/chapter2_ship_emissions.pdf" TargetMode="External"/><Relationship Id="rId2" Type="http://schemas.openxmlformats.org/officeDocument/2006/relationships/hyperlink" Target="http://ec.europa.eu/environment/air/pdf/chapter2_ship_emissions.pdf" TargetMode="External"/><Relationship Id="rId3" Type="http://schemas.openxmlformats.org/officeDocument/2006/relationships/hyperlink" Target="http://ec.europa.eu/environment/air/pdf/chapter2_ship_emissions.pdf" TargetMode="External"/><Relationship Id="rId4" Type="http://schemas.openxmlformats.org/officeDocument/2006/relationships/hyperlink" Target="http://ec.europa.eu/environment/air/pdf/chapter2_ship_emissions.pdf" TargetMode="External"/><Relationship Id="rId5" Type="http://schemas.openxmlformats.org/officeDocument/2006/relationships/hyperlink" Target="http://ec.europa.eu/environment/air/pdf/chapter2_ship_emissions.pdf" TargetMode="External"/><Relationship Id="rId6" Type="http://schemas.openxmlformats.org/officeDocument/2006/relationships/hyperlink" Target="http://ec.europa.eu/environment/air/pdf/chapter2_ship_emissions.pdf" TargetMode="External"/><Relationship Id="rId7" Type="http://schemas.openxmlformats.org/officeDocument/2006/relationships/hyperlink" Target="http://ec.europa.eu/environment/air/pdf/chapter2_ship_emissions.pdf" TargetMode="External"/><Relationship Id="rId8" Type="http://schemas.openxmlformats.org/officeDocument/2006/relationships/hyperlink" Target="http://ec.europa.eu/environment/air/pdf/chapter2_ship_emissions.pdf" TargetMode="External"/><Relationship Id="rId9" Type="http://schemas.openxmlformats.org/officeDocument/2006/relationships/hyperlink" Target="http://ec.europa.eu/environment/air/pdf/chapter2_ship_emissions.pdf" TargetMode="External"/><Relationship Id="rId10" Type="http://schemas.openxmlformats.org/officeDocument/2006/relationships/hyperlink" Target="http://ec.europa.eu/environment/air/pdf/chapter2_ship_emissions.pdf" TargetMode="External"/><Relationship Id="rId11" Type="http://schemas.openxmlformats.org/officeDocument/2006/relationships/hyperlink" Target="http://ec.europa.eu/environment/air/pdf/chapter2_ship_emissions.pdf" TargetMode="External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2438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647080"/>
            <a:ext cx="91440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Times New Roman"/>
              </a:rPr>
              <a:t>MODULO PORTI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Times New Roman"/>
              </a:rPr>
              <a:t>Palmanova, 15 aprile 2008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4800" t="6266" r="4014" b="6009"/>
          <a:stretch/>
        </p:blipFill>
        <p:spPr>
          <a:xfrm>
            <a:off x="1547640" y="549360"/>
            <a:ext cx="6193080" cy="45640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-21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a     b        c         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5651640" y="692280"/>
            <a:ext cx="576000" cy="19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9301" t="16454" r="10066" b="41616"/>
          <a:stretch/>
        </p:blipFill>
        <p:spPr>
          <a:xfrm>
            <a:off x="-1440" y="1771560"/>
            <a:ext cx="9145440" cy="37702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2195640" y="2276640"/>
            <a:ext cx="504720" cy="288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84360" y="620640"/>
            <a:ext cx="647640" cy="1728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0720" y="620640"/>
            <a:ext cx="14292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620640"/>
            <a:ext cx="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48000" y="620640"/>
            <a:ext cx="36036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10648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52388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595656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 il carburant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689040"/>
            <a:ext cx="8569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Mentre la struttura prevede che i F.E siano disponibili per ogni associazione di carburante, motore e fase, i FE utilizzati sono indipendenti dal tipo di motore e dal tipo di combustibile utilizzato e sono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funzione esclusivamente del tipo di imbarcazione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e d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fase operativa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. Il sistema permette però la possibilità di inserire dati più accurati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 caso sia mancante il tipo di carburante (j), il tipo di imbarcazione (k) o il tipo di motore (l) si utilizza l’id_comb, l’id_tipo_imbarcazione e l’id_tipo_motore corrispondente a  99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9848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1280" y="1682640"/>
            <a:ext cx="103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.E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.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k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82760" y="-39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27041" t="17901" r="25984" b="11966"/>
          <a:stretch/>
        </p:blipFill>
        <p:spPr>
          <a:xfrm>
            <a:off x="1380960" y="152280"/>
            <a:ext cx="7305840" cy="655164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1295280" y="0"/>
            <a:ext cx="167652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152280"/>
            <a:ext cx="1600200" cy="381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00400" y="6019920"/>
            <a:ext cx="2819520" cy="685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457200"/>
            <a:ext cx="1676520" cy="609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5651640" y="692280"/>
            <a:ext cx="576000" cy="19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1219320"/>
            <a:ext cx="0" cy="380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34960" y="4561560"/>
            <a:ext cx="1249920" cy="649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800600" y="4648320"/>
            <a:ext cx="644400" cy="609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438280" y="2514600"/>
            <a:ext cx="648000" cy="685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538280"/>
            <a:ext cx="21337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1" lang="it-IT" sz="2800" spc="-1" strike="noStrike" baseline="-25000">
                <a:solidFill>
                  <a:srgbClr val="004c2b"/>
                </a:solidFill>
                <a:latin typeface="Times New Roman"/>
              </a:rPr>
              <a:t>k</a:t>
            </a: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consumo max</a:t>
            </a:r>
            <a:br>
              <a:rPr sz="2400"/>
            </a:b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14840" y="4130640"/>
            <a:ext cx="109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.E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k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12240" y="5968800"/>
            <a:ext cx="2160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missione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k 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9800" y="53100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Stazza lord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47640" y="3978000"/>
            <a:ext cx="318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   consumo effettiv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93640" y="1539000"/>
            <a:ext cx="22838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P</a:t>
            </a:r>
            <a:r>
              <a:rPr b="1" lang="it-IT" sz="2800" spc="-1" strike="noStrike" baseline="-25000">
                <a:solidFill>
                  <a:srgbClr val="004c2b"/>
                </a:solidFill>
                <a:latin typeface="Times New Roman"/>
              </a:rPr>
              <a:t>km</a:t>
            </a:r>
            <a:br>
              <a:rPr sz="2800"/>
            </a:b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 frazione potenz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2438280"/>
            <a:ext cx="609480" cy="7621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81840" y="329040"/>
            <a:ext cx="275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 tipo moto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 tipo imbarcazio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tipo fa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combustib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9680" y="3200400"/>
            <a:ext cx="0" cy="781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5562720"/>
            <a:ext cx="0" cy="433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68160" y="496872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</a:t>
            </a:r>
            <a:r>
              <a:rPr b="1" lang="it-IT" sz="1800" spc="-1" strike="noStrike" baseline="-25000">
                <a:solidFill>
                  <a:srgbClr val="333333"/>
                </a:solidFill>
                <a:latin typeface="Times New Roman"/>
              </a:rPr>
              <a:t>(GT)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10000" y="5121000"/>
            <a:ext cx="83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</a:t>
            </a:r>
            <a:r>
              <a:rPr b="1" lang="it-IT" sz="1800" spc="-1" strike="noStrike" baseline="-25000">
                <a:solidFill>
                  <a:srgbClr val="333333"/>
                </a:solidFill>
                <a:latin typeface="Times New Roman"/>
              </a:rPr>
              <a:t>(GT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5486400"/>
            <a:ext cx="1684440" cy="30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932360" y="5410080"/>
            <a:ext cx="858960" cy="106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600200"/>
            <a:ext cx="990720" cy="53352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1523880"/>
            <a:ext cx="114300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038480"/>
            <a:ext cx="106704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86400" y="4191120"/>
            <a:ext cx="1143000" cy="60948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5181480"/>
            <a:ext cx="114300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5029200"/>
            <a:ext cx="1143000" cy="60948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2283480"/>
            <a:ext cx="32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Elaborati tenendo conto dei motori e del carburante principalmente associati ad un certo tipo di imbarcazion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4120" y="2057400"/>
            <a:ext cx="3581280" cy="190512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2209680"/>
            <a:ext cx="3353040" cy="1447920"/>
          </a:xfrm>
          <a:prstGeom prst="wedgeRectCallout">
            <a:avLst>
              <a:gd name="adj1" fmla="val -43518"/>
              <a:gd name="adj2" fmla="val 82675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1859400"/>
            <a:ext cx="864216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Dall’esecuzione del sopracitato algoritmo si generano 2 tabell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INTERMED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DETTAGLI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n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 PO_RIS_ DETTAGLIO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vengono scritte le emission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suddivise per inquinante i, distinte per carburante j, tipo di imbarcazione k, tipo di motore l e fase operativa m. Nella tabella si riporta, al posto della nazionalità, l’attività SNAP corrispondente ed anche l’ID_IM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452160"/>
            <a:ext cx="398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1500480"/>
            <a:ext cx="84978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tab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INTERMEDI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vengono scritte le emission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totali per inquinante i distinte solo per carburante j e tipo di imbarcazione k; viene indicata anche l’attività SNAP corrispondent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tab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TAB_OUTPUT</a:t>
            </a:r>
            <a:r>
              <a:rPr b="0" i="1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si fa la somma di tutte le emissioni, mettendo come tipo PO e sommando per tipo di attività (399 e 401), combustibile e inquinant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452160"/>
            <a:ext cx="360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63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Raccolta da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16000" y="1413000"/>
          <a:ext cx="7201080" cy="4133880"/>
        </p:xfrm>
        <a:graphic>
          <a:graphicData uri="http://schemas.openxmlformats.org/drawingml/2006/table">
            <a:tbl>
              <a:tblPr/>
              <a:tblGrid>
                <a:gridCol w="3384720"/>
                <a:gridCol w="3816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FONT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.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Tipi di imbarcazione e stazza lorda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 Autorità Portual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.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Consumo giornaliero di carburant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Metodologia dettagliata MEET – Trozzi, Vaccaro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.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Giorni di permanenza delle imbarcazioni  in ogni fas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 Autorità Portual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4.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 Fattori di emissione per inquinante, </a:t>
                      </a: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in funzione del tipo di nave e della fase in cui si trova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European Commission – Quantification of emissions from ships associated with ship movements between ports in the european community – luglio 2002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1042920" y="5820840"/>
            <a:ext cx="7201080" cy="703800"/>
          </a:xfrm>
          <a:prstGeom prst="rect">
            <a:avLst/>
          </a:prstGeom>
          <a:solidFill>
            <a:srgbClr val="ff660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2"/>
              </a:rPr>
              <a:t>ec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4"/>
              </a:rPr>
              <a:t>europa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6"/>
              </a:rPr>
              <a:t>eu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8"/>
              </a:rPr>
              <a:t>environment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9"/>
              </a:rPr>
              <a:t>/air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0"/>
              </a:rPr>
              <a:t>pdf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1"/>
              </a:rPr>
              <a:t>/chapter2_ship_emissions.pdf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27640" y="5516640"/>
            <a:ext cx="289080" cy="5763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3333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16000" y="40320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Incertezze/precisazion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1484640"/>
            <a:ext cx="8424720" cy="44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F.E. per SO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: Emilia Romagna ha segnalato che sembrano alti (elevato tenore zolfo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F.E. per CO: potremmo utilizzare lo stesso approccio adottato dalla Regione Veneto, che ha usato un unico fattore di emissione medio (tratto dal Guidebook Corinair) indipendente dal tipo di nav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 campo TEMPO_NAVIGAZIONE  viene inserito il valore medio della somma dei tempi impiegati dalle imbarcazioni con stesso ID_IMC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52440"/>
            <a:ext cx="8964720" cy="61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La metodologia di stima è quella contenuta nell'Atmospheric Emission Inventory Guidebook (EEA, 2007), applicata ed implementata nel 2006 dal Dipartimento Provinciale di Venezia di A.R.P.A.V. (</a:t>
            </a:r>
            <a:r>
              <a:rPr b="0" i="1" lang="it-IT" sz="2000" spc="-1" strike="noStrike">
                <a:solidFill>
                  <a:srgbClr val="333333"/>
                </a:solidFill>
                <a:latin typeface="Times New Roman"/>
              </a:rPr>
              <a:t>“Le emissioni da attività portuale” - febbraio 2007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 - 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</a:rPr>
              <a:t>http://www.arpa.veneto.it/dapve/docs/Relazione_tecnica_emissioni_portuali.pdf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). Tale implementazione, partendo dall'approccio MEET (Methodology for Estimate air pollutant Emissions from Transport) proposto da Trozzi e Vaccaro (1998, 2006), prevede di utilizzare dei fattori di emissione indipendenti dal tipo di motore installato sulle imbarcazion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n base alla classificazione Corinair le emissioni dai porti sono suddivise nelle seguenti attività 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080402  Traffico marittimo naziona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080404  Traffico marittimo internaziona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-570240"/>
            <a:ext cx="9144000" cy="25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1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333333"/>
                </a:solidFill>
                <a:latin typeface="Times New Roman"/>
              </a:rPr>
              <a:t>=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333333"/>
                </a:solidFill>
                <a:latin typeface="Symbol"/>
                <a:ea typeface="Symbol"/>
              </a:rPr>
              <a:t>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n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klm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2045520"/>
            <a:ext cx="8496360" cy="46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= emissione totale dell’inquinante 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</a:t>
            </a: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inquinan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j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 = carburan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k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tipo di imbarcazio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tipo di moto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fase operativ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numero di imbarcazioni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n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= emissione totale dell’inquinante i dall’uso del carburante j, sulle n imbarcazioni di tipo k, con motore l,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fas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-1800"/>
            <a:ext cx="9144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Fasi operativ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4926" t="18820" r="19438" b="10848"/>
          <a:stretch/>
        </p:blipFill>
        <p:spPr>
          <a:xfrm>
            <a:off x="179280" y="620640"/>
            <a:ext cx="7058160" cy="6050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13042" t="60765" r="60690" b="8700"/>
          <a:stretch/>
        </p:blipFill>
        <p:spPr>
          <a:xfrm>
            <a:off x="5724360" y="3879720"/>
            <a:ext cx="3203640" cy="2978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rot="11400">
            <a:off x="7465680" y="3124080"/>
            <a:ext cx="533520" cy="758880"/>
          </a:xfrm>
          <a:prstGeom prst="downArrowCallout">
            <a:avLst>
              <a:gd name="adj1" fmla="val 25002"/>
              <a:gd name="adj2" fmla="val 33222"/>
              <a:gd name="adj3" fmla="val 23707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67480" y="304596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492280"/>
            <a:ext cx="9144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1188" t="32673" r="49473" b="8700"/>
          <a:stretch/>
        </p:blipFill>
        <p:spPr>
          <a:xfrm>
            <a:off x="152280" y="380880"/>
            <a:ext cx="4210200" cy="5011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11173" t="14136" r="55065" b="11043"/>
          <a:stretch/>
        </p:blipFill>
        <p:spPr>
          <a:xfrm>
            <a:off x="5148360" y="189000"/>
            <a:ext cx="3386160" cy="6021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rcRect l="13051" t="35101" r="28813" b="32056"/>
          <a:stretch/>
        </p:blipFill>
        <p:spPr>
          <a:xfrm>
            <a:off x="3059280" y="4110120"/>
            <a:ext cx="5905440" cy="2666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09880" y="30276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2524200">
            <a:off x="7821360" y="293760"/>
            <a:ext cx="457200" cy="609480"/>
          </a:xfrm>
          <a:prstGeom prst="downArrowCallout">
            <a:avLst>
              <a:gd name="adj1" fmla="val 25002"/>
              <a:gd name="adj2" fmla="val 33222"/>
              <a:gd name="adj3" fmla="val 22218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906600">
            <a:off x="3733560" y="456840"/>
            <a:ext cx="457200" cy="533520"/>
          </a:xfrm>
          <a:prstGeom prst="downArrowCallout">
            <a:avLst>
              <a:gd name="adj1" fmla="val 25002"/>
              <a:gd name="adj2" fmla="val 33222"/>
              <a:gd name="adj3" fmla="val 19449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524200">
            <a:off x="2874960" y="3182760"/>
            <a:ext cx="485640" cy="601920"/>
          </a:xfrm>
          <a:prstGeom prst="downArrowCallout">
            <a:avLst>
              <a:gd name="adj1" fmla="val 25002"/>
              <a:gd name="adj2" fmla="val 33222"/>
              <a:gd name="adj3" fmla="val 20657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21496200">
            <a:off x="7696080" y="4113360"/>
            <a:ext cx="457200" cy="609480"/>
          </a:xfrm>
          <a:prstGeom prst="downArrowCallout">
            <a:avLst>
              <a:gd name="adj1" fmla="val 25002"/>
              <a:gd name="adj2" fmla="val 33222"/>
              <a:gd name="adj3" fmla="val 22218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307620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24680" y="2268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403668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-356400"/>
            <a:ext cx="9144000" cy="30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klmn =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t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lm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N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10</a:t>
            </a:r>
            <a:r>
              <a:rPr b="0" lang="it-IT" sz="4400" spc="-1" strike="noStrike" baseline="30000">
                <a:solidFill>
                  <a:srgbClr val="333333"/>
                </a:solidFill>
                <a:latin typeface="Times New Roman"/>
              </a:rPr>
              <a:t>-6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977560"/>
            <a:ext cx="9144000" cy="35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consumo giornaliero di carburante j, nell’imbarcazione k 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ella fase 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giorni di navigazione dell’imbarcazione k con motore l e usando carburante j nella fase m 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TEMPI_NAVIGAZIONE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ijlm  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= F.E. medio dell’inquinante i, per il carburante j e motore l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ella fase m 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FATT_EMISSIONE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numero imbarcazioni k, con motore l e carburante j 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NUM_MOVIMENT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9280" y="855720"/>
            <a:ext cx="865980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S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= C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* p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k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= consumo giornaliero di combustibile j dell’imbarcazione k  al 100% della potenza (come funzione della stazza lorda)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[t/giorno]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k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= frazione del consumo di combustibile nella fase m per l’imbarcazione k 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FRAZ_POT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92360" y="525960"/>
            <a:ext cx="11527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it-IT" sz="4400" spc="-1" strike="noStrike" baseline="-25000">
                <a:solidFill>
                  <a:srgbClr val="ff0000"/>
                </a:solidFill>
                <a:latin typeface="Times New Roman"/>
              </a:rPr>
              <a:t>mk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9301" t="44384" r="25075" b="31927"/>
          <a:stretch/>
        </p:blipFill>
        <p:spPr>
          <a:xfrm>
            <a:off x="177840" y="2062080"/>
            <a:ext cx="8813880" cy="25192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23" name=""/>
          <p:cNvSpPr/>
          <p:nvPr/>
        </p:nvSpPr>
        <p:spPr>
          <a:xfrm flipH="1">
            <a:off x="2627640" y="1357920"/>
            <a:ext cx="1323360" cy="11210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80400" y="1387440"/>
            <a:ext cx="1372320" cy="1060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1146960"/>
            <a:ext cx="8659800" cy="51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C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C </a:t>
            </a:r>
            <a:r>
              <a:rPr b="0" lang="it-IT" sz="3400" spc="-1" strike="noStrike" baseline="-25000">
                <a:solidFill>
                  <a:srgbClr val="333333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=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 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c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 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d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3 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4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b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c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d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,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= coefficienti tabellati nella metodologia 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CONSUMI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GT = stazza lorda dell’imbarcazione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[t]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IMC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11:34:14Z</dcterms:created>
  <dc:creator>Regione Lombardia</dc:creator>
  <dc:description/>
  <dc:language>en-US</dc:language>
  <cp:lastModifiedBy>amonguzzi</cp:lastModifiedBy>
  <cp:lastPrinted>2003-11-20T15:20:17Z</cp:lastPrinted>
  <dcterms:modified xsi:type="dcterms:W3CDTF">2008-05-06T12:58:00Z</dcterms:modified>
  <cp:revision>218</cp:revision>
  <dc:subject/>
  <dc:title>Nessun titolo diapositiva</dc:title>
</cp:coreProperties>
</file>