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F6D5-B7E8-4EA8-907A-900DFC8CB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F515-E074-473D-B2CB-AC839740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A0D5-3A00-4B92-A899-CCA968506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C0B9-B864-4D70-A7E7-8D49AF830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F95B-E3F8-48B5-867B-FBFC0FB68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29A8F-A53C-42D2-9ADE-4723DE66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0F07-9192-45C5-82B0-495D6F71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033A-F3DF-4995-B15E-F81F3682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DF51-EF2E-40E6-8602-D4AA6FFE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50C3-FA78-4CCB-9538-B9212AD9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7D818-AF3D-40FE-BB42-9949F7CE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E848-925B-4BD7-B82C-8EC14CF4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C7EE-BF1A-487B-BE9F-ACDA7CBA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638AC-7A65-43B3-B8DD-3C2F5307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E7F48-CEE9-4718-9405-78E71B46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D9B41-A27F-4063-AD34-41F09CD04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5D6E-02FA-4678-BD10-F4EA07EFF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2632-C482-4016-95FF-A95B41C8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7F63-9C19-46F1-A596-1CDE579BD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0966-A793-40D3-999F-6FD04C4E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E1DB-A6E7-407D-9B5F-65BC8AFD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6E88-FDFD-4865-9D0A-00339E52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9145-4001-44AD-84E5-741C891A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8078-45FE-4F7A-8F9F-657B053B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FD41-9144-42C5-A856-37878667919C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FD4A-D9DF-45F8-827E-4BC475E950B7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c.europa.eu/environment/air/pdf/chapter2_ship_emissions.pdf" TargetMode="External"/><Relationship Id="rId2" Type="http://schemas.openxmlformats.org/officeDocument/2006/relationships/hyperlink" Target="http://ec.europa.eu/environment/air/pdf/chapter2_ship_emissions.pdf" TargetMode="External"/><Relationship Id="rId3" Type="http://schemas.openxmlformats.org/officeDocument/2006/relationships/hyperlink" Target="http://ec.europa.eu/environment/air/pdf/chapter2_ship_emissions.pdf" TargetMode="External"/><Relationship Id="rId4" Type="http://schemas.openxmlformats.org/officeDocument/2006/relationships/hyperlink" Target="http://ec.europa.eu/environment/air/pdf/chapter2_ship_emissions.pdf" TargetMode="External"/><Relationship Id="rId5" Type="http://schemas.openxmlformats.org/officeDocument/2006/relationships/hyperlink" Target="http://ec.europa.eu/environment/air/pdf/chapter2_ship_emissions.pdf" TargetMode="External"/><Relationship Id="rId6" Type="http://schemas.openxmlformats.org/officeDocument/2006/relationships/hyperlink" Target="http://ec.europa.eu/environment/air/pdf/chapter2_ship_emissions.pdf" TargetMode="External"/><Relationship Id="rId7" Type="http://schemas.openxmlformats.org/officeDocument/2006/relationships/hyperlink" Target="http://ec.europa.eu/environment/air/pdf/chapter2_ship_emissions.pdf" TargetMode="External"/><Relationship Id="rId8" Type="http://schemas.openxmlformats.org/officeDocument/2006/relationships/hyperlink" Target="http://ec.europa.eu/environment/air/pdf/chapter2_ship_emissions.pdf" TargetMode="External"/><Relationship Id="rId9" Type="http://schemas.openxmlformats.org/officeDocument/2006/relationships/hyperlink" Target="http://ec.europa.eu/environment/air/pdf/chapter2_ship_emissions.pdf" TargetMode="External"/><Relationship Id="rId10" Type="http://schemas.openxmlformats.org/officeDocument/2006/relationships/hyperlink" Target="http://ec.europa.eu/environment/air/pdf/chapter2_ship_emissions.pdf" TargetMode="External"/><Relationship Id="rId11" Type="http://schemas.openxmlformats.org/officeDocument/2006/relationships/hyperlink" Target="http://ec.europa.eu/environment/air/pdf/chapter2_ship_emissions.pdf" TargetMode="External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2438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647080"/>
            <a:ext cx="91440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Times New Roman"/>
              </a:rPr>
              <a:t>MODULO PORTI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Times New Roman"/>
              </a:rPr>
              <a:t>Palmanova, 15 aprile 2008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4800" t="6266" r="4014" b="6009"/>
          <a:stretch/>
        </p:blipFill>
        <p:spPr>
          <a:xfrm>
            <a:off x="1547640" y="549360"/>
            <a:ext cx="6193080" cy="45640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95640" y="-21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a     b        c         d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5651640" y="692280"/>
            <a:ext cx="576000" cy="1944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9301" t="16454" r="10066" b="41616"/>
          <a:stretch/>
        </p:blipFill>
        <p:spPr>
          <a:xfrm>
            <a:off x="-1440" y="1771560"/>
            <a:ext cx="9145440" cy="377028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2195640" y="2276640"/>
            <a:ext cx="504720" cy="2887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84360" y="620640"/>
            <a:ext cx="647640" cy="1728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00720" y="620640"/>
            <a:ext cx="142920" cy="165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88000" y="620640"/>
            <a:ext cx="0" cy="165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48000" y="620640"/>
            <a:ext cx="360360" cy="165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106488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1523880"/>
            <a:ext cx="0" cy="457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595656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e il carburant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689040"/>
            <a:ext cx="8569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Mentre la struttura prevede che i F.E siano disponibili per ogni associazione di carburante, motore e fase, i FE utilizzati sono indipendenti dal tipo di motore e dal tipo di combustibile utilizzato e sono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funzione esclusivamente del tipo di imbarcazione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e della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fase operativa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. Il sistema permette però la possibilità di inserire dati più accurati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 caso sia mancante il tipo di carburante (j), il tipo di imbarcazione (k) o il tipo di motore (l) si utilizza l’id_comb, l’id_tipo_imbarcazione e l’id_tipo_motore corrispondente a  99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79848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1280" y="1682640"/>
            <a:ext cx="1035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.E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.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k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82760" y="-39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27041" t="17901" r="25984" b="11966"/>
          <a:stretch/>
        </p:blipFill>
        <p:spPr>
          <a:xfrm>
            <a:off x="1380960" y="152280"/>
            <a:ext cx="7305840" cy="655164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1295280" y="0"/>
            <a:ext cx="167652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152280"/>
            <a:ext cx="1600200" cy="3812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200400" y="6019920"/>
            <a:ext cx="2819520" cy="6858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457200"/>
            <a:ext cx="1676520" cy="6094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5651640" y="692280"/>
            <a:ext cx="576000" cy="1944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1219320"/>
            <a:ext cx="0" cy="380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34960" y="4561560"/>
            <a:ext cx="1249920" cy="649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800600" y="4648320"/>
            <a:ext cx="644400" cy="609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438280" y="2514600"/>
            <a:ext cx="648000" cy="6858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538280"/>
            <a:ext cx="21337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1" lang="it-IT" sz="2800" spc="-1" strike="noStrike" baseline="-25000">
                <a:solidFill>
                  <a:srgbClr val="004c2b"/>
                </a:solidFill>
                <a:latin typeface="Times New Roman"/>
              </a:rPr>
              <a:t>k</a:t>
            </a:r>
            <a:r>
              <a:rPr b="1" lang="it-IT" sz="28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it-IT" sz="2400" spc="-1" strike="noStrike">
                <a:solidFill>
                  <a:srgbClr val="004c2b"/>
                </a:solidFill>
                <a:latin typeface="Times New Roman"/>
              </a:rPr>
              <a:t>consumo max</a:t>
            </a:r>
            <a:br>
              <a:rPr sz="2400"/>
            </a:b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14840" y="4130640"/>
            <a:ext cx="109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F.E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k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12240" y="5968800"/>
            <a:ext cx="21607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Emissione</a:t>
            </a: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k 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9800" y="53100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Stazza lord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47640" y="3978000"/>
            <a:ext cx="3183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1" lang="it-IT" sz="2800" spc="-1" strike="noStrike" baseline="-25000">
                <a:solidFill>
                  <a:srgbClr val="333333"/>
                </a:solidFill>
                <a:latin typeface="Times New Roman"/>
              </a:rPr>
              <a:t>k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   consumo effettiv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93640" y="1539000"/>
            <a:ext cx="228384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4c2b"/>
                </a:solidFill>
                <a:latin typeface="Times New Roman"/>
              </a:rPr>
              <a:t>P</a:t>
            </a:r>
            <a:r>
              <a:rPr b="1" lang="it-IT" sz="2800" spc="-1" strike="noStrike" baseline="-25000">
                <a:solidFill>
                  <a:srgbClr val="004c2b"/>
                </a:solidFill>
                <a:latin typeface="Times New Roman"/>
              </a:rPr>
              <a:t>km</a:t>
            </a:r>
            <a:br>
              <a:rPr sz="2800"/>
            </a:br>
            <a:r>
              <a:rPr b="0" lang="it-IT" sz="2400" spc="-1" strike="noStrike">
                <a:solidFill>
                  <a:srgbClr val="004c2b"/>
                </a:solidFill>
                <a:latin typeface="Times New Roman"/>
              </a:rPr>
              <a:t> frazione potenz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371600" y="2438280"/>
            <a:ext cx="609480" cy="7621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81840" y="329040"/>
            <a:ext cx="2759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042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   tipo motor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042b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   tipo imbarcazion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042b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 tipo fa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042b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  combustibi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09680" y="3200400"/>
            <a:ext cx="0" cy="781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48320" y="5562720"/>
            <a:ext cx="0" cy="433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68160" y="4968720"/>
            <a:ext cx="86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1" lang="it-IT" sz="2800" spc="-1" strike="noStrike" baseline="-25000">
                <a:solidFill>
                  <a:srgbClr val="333333"/>
                </a:solidFill>
                <a:latin typeface="Times New Roman"/>
              </a:rPr>
              <a:t>k</a:t>
            </a:r>
            <a:r>
              <a:rPr b="1" lang="it-IT" sz="1800" spc="-1" strike="noStrike" baseline="-25000">
                <a:solidFill>
                  <a:srgbClr val="333333"/>
                </a:solidFill>
                <a:latin typeface="Times New Roman"/>
              </a:rPr>
              <a:t>(GT)</a:t>
            </a:r>
            <a:r>
              <a:rPr b="1" lang="it-IT" sz="2800" spc="-1" strike="noStrike" baseline="-25000">
                <a:solidFill>
                  <a:srgbClr val="333333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10000" y="5121000"/>
            <a:ext cx="83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1" lang="it-IT" sz="2800" spc="-1" strike="noStrike" baseline="-25000">
                <a:solidFill>
                  <a:srgbClr val="333333"/>
                </a:solidFill>
                <a:latin typeface="Times New Roman"/>
              </a:rPr>
              <a:t>k</a:t>
            </a:r>
            <a:r>
              <a:rPr b="1" lang="it-IT" sz="1800" spc="-1" strike="noStrike" baseline="-25000">
                <a:solidFill>
                  <a:srgbClr val="333333"/>
                </a:solidFill>
                <a:latin typeface="Times New Roman"/>
              </a:rPr>
              <a:t>(GT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5486400"/>
            <a:ext cx="1684440" cy="30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932360" y="5410080"/>
            <a:ext cx="858960" cy="106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1600200"/>
            <a:ext cx="990720" cy="53352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71800" y="1523880"/>
            <a:ext cx="1143000" cy="60984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4038480"/>
            <a:ext cx="1067040" cy="60984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86400" y="4191120"/>
            <a:ext cx="1143000" cy="60948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5181480"/>
            <a:ext cx="1143000" cy="60984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43600" y="5029200"/>
            <a:ext cx="1143000" cy="60948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15000" y="2283480"/>
            <a:ext cx="32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Elaborati tenendo conto dei motori e del carburante principalmente associati ad un certo tipo di imbarcazion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4120" y="2057400"/>
            <a:ext cx="3581280" cy="190512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38680" y="2209680"/>
            <a:ext cx="3353040" cy="1447920"/>
          </a:xfrm>
          <a:prstGeom prst="wedgeRectCallout">
            <a:avLst>
              <a:gd name="adj1" fmla="val -43518"/>
              <a:gd name="adj2" fmla="val 82675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1859400"/>
            <a:ext cx="8642160" cy="44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Dall’esecuzione del sopracitato algoritmo si generano 2 tabell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PO_RIS_INTERMED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PO_RIS_DETTAGLI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n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 PO_RIS_ DETTAGLIO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vengono scritte le emissioni 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jklm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suddivise per inquinante i, distinte per carburante j, tipo di imbarcazione k, tipo di motore l e fase operativa m. Nella tabella si riporta, al posto della nazionalità, l’attività SNAP corrispondente ed anche l’ID_IMC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11280" y="452160"/>
            <a:ext cx="398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Modulo port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0920" y="1500480"/>
            <a:ext cx="849780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la tabella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PO_RIS_INTERMEDI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vengono scritte le emissioni 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jk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totali per inquinante i distinte solo per carburante j e tipo di imbarcazione k; viene indicata anche l’attività SNAP corrispondente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la tabella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TAB_OUTPUT</a:t>
            </a:r>
            <a:r>
              <a:rPr b="0" i="1" lang="it-IT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si fa la somma di tutte le emissioni, mettendo come tipo PO e sommando per tipo di attività (399 e 401), combustibile e inquinante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11280" y="452160"/>
            <a:ext cx="360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Modulo port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63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Verdana"/>
              </a:rPr>
              <a:t>Raccolta dat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116000" y="1413000"/>
          <a:ext cx="7201080" cy="4133880"/>
        </p:xfrm>
        <a:graphic>
          <a:graphicData uri="http://schemas.openxmlformats.org/drawingml/2006/table">
            <a:tbl>
              <a:tblPr/>
              <a:tblGrid>
                <a:gridCol w="3384720"/>
                <a:gridCol w="3816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DATI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FONT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. 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Tipi di imbarcazione e stazza lorda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Dati Autorità Portual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2. 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Consumo giornaliero di carburant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Metodologia dettagliata MEET – Trozzi, Vaccaro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70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3.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Giorni di permanenza delle imbarcazioni  in ogni fas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Dati Autorità Portual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4.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 Fattori di emissione per inquinante, </a:t>
                      </a: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in funzione del tipo di nave e della fase in cui si trova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European Commission – Quantification of emissions from ships associated with ship movements between ports in the european community – luglio 2002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1042920" y="5820840"/>
            <a:ext cx="7201080" cy="703800"/>
          </a:xfrm>
          <a:prstGeom prst="rect">
            <a:avLst/>
          </a:prstGeom>
          <a:solidFill>
            <a:srgbClr val="ff6600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2"/>
              </a:rPr>
              <a:t>ec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4"/>
              </a:rPr>
              <a:t>europa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6"/>
              </a:rPr>
              <a:t>eu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7"/>
              </a:rPr>
              <a:t>/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8"/>
              </a:rPr>
              <a:t>environment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9"/>
              </a:rPr>
              <a:t>/air/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10"/>
              </a:rPr>
              <a:t>pdf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11"/>
              </a:rPr>
              <a:t>/chapter2_ship_emissions.pdf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27640" y="5516640"/>
            <a:ext cx="289080" cy="576360"/>
          </a:xfrm>
          <a:prstGeom prst="downArrow">
            <a:avLst>
              <a:gd name="adj1" fmla="val 50000"/>
              <a:gd name="adj2" fmla="val 49844"/>
            </a:avLst>
          </a:prstGeom>
          <a:solidFill>
            <a:srgbClr val="3333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16000" y="40320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Verdana"/>
              </a:rPr>
              <a:t>Incertezze/precisazion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" y="1484640"/>
            <a:ext cx="8424720" cy="44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457200" indent="-457200" algn="just">
              <a:spcBef>
                <a:spcPts val="174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F.E. per SO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: Emilia Romagna ha segnalato che sembrano alti (elevato tenore zolfo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just">
              <a:spcBef>
                <a:spcPts val="174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F.E. per CO: potremmo utilizzare lo stesso approccio adottato dalla Regione Veneto, che ha usato un unico fattore di emissione medio (tratto dal Guidebook Corinair) indipendente dal tipo di nave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just">
              <a:spcBef>
                <a:spcPts val="174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 campo TEMPO_NAVIGAZIONE  viene inserito il valore medio della somma dei tempi impiegati dalle imbarcazioni con stesso ID_IMC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52440"/>
            <a:ext cx="8964720" cy="61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3399"/>
                </a:solidFill>
                <a:latin typeface="Times New Roman"/>
              </a:rPr>
              <a:t>Modulo port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La metodologia di stima è quella contenuta nell'Atmospheric Emission Inventory Guidebook (EEA, 2007), applicata ed implementata nel 2006 dal Dipartimento Provinciale di Venezia di A.R.P.A.V. (</a:t>
            </a:r>
            <a:r>
              <a:rPr b="0" i="1" lang="it-IT" sz="2000" spc="-1" strike="noStrike">
                <a:solidFill>
                  <a:srgbClr val="333333"/>
                </a:solidFill>
                <a:latin typeface="Times New Roman"/>
              </a:rPr>
              <a:t>“Le emissioni da attività portuale” - febbraio 2007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 - 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</a:rPr>
              <a:t>http://www.arpa.veneto.it/dapve/docs/Relazione_tecnica_emissioni_portuali.pdf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). Tale implementazione, partendo dall'approccio MEET (Methodology for Estimate air pollutant Emissions from Transport) proposto da Trozzi e Vaccaro (1998, 2006), prevede di utilizzare dei fattori di emissione indipendenti dal tipo di motore installato sulle imbarcazioni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n base alla classificazione Corinair le emissioni dai porti sono suddivise nelle seguenti attività 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- 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080402  Traffico marittimo naziona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080404  Traffico marittimo internaziona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-570240"/>
            <a:ext cx="9144000" cy="25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3399"/>
                </a:solidFill>
                <a:latin typeface="Times New Roman"/>
              </a:rPr>
              <a:t>MEET dettagliat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E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i</a:t>
            </a:r>
            <a:r>
              <a:rPr b="1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333333"/>
                </a:solidFill>
                <a:latin typeface="Times New Roman"/>
              </a:rPr>
              <a:t>= 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it-IT" sz="4400" spc="-1" strike="noStrike">
                <a:solidFill>
                  <a:srgbClr val="333333"/>
                </a:solidFill>
                <a:latin typeface="Symbol"/>
                <a:ea typeface="Symbol"/>
              </a:rPr>
              <a:t>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jklmn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E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ijklm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2045520"/>
            <a:ext cx="8496360" cy="46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33"/>
                </a:solidFill>
                <a:latin typeface="Times New Roman"/>
              </a:rPr>
              <a:t>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= emissione totale dell’inquinante 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</a:t>
            </a:r>
            <a:r>
              <a:rPr b="0" lang="it-IT" sz="2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inquinan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j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 = carburan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k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tipo di imbarcazion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tipo di motor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fase operativ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numero di imbarcazioni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jklmn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= emissione totale dell’inquinante i dall’uso del carburante j, sulle n imbarcazioni di tipo k, con motore l,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la fas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-1800"/>
            <a:ext cx="91440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Verdana"/>
              </a:rPr>
              <a:t>Fasi operative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4926" t="18820" r="19438" b="10848"/>
          <a:stretch/>
        </p:blipFill>
        <p:spPr>
          <a:xfrm>
            <a:off x="179280" y="620640"/>
            <a:ext cx="7058160" cy="6050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rcRect l="13042" t="60765" r="60690" b="8700"/>
          <a:stretch/>
        </p:blipFill>
        <p:spPr>
          <a:xfrm>
            <a:off x="5724360" y="3879720"/>
            <a:ext cx="3203640" cy="2978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rot="11400">
            <a:off x="7465680" y="3124080"/>
            <a:ext cx="533520" cy="758880"/>
          </a:xfrm>
          <a:prstGeom prst="downArrowCallout">
            <a:avLst>
              <a:gd name="adj1" fmla="val 25002"/>
              <a:gd name="adj2" fmla="val 33222"/>
              <a:gd name="adj3" fmla="val 23707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67480" y="304596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492280"/>
            <a:ext cx="91440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11188" t="32673" r="49473" b="8700"/>
          <a:stretch/>
        </p:blipFill>
        <p:spPr>
          <a:xfrm>
            <a:off x="152280" y="380880"/>
            <a:ext cx="4210200" cy="5011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rcRect l="11173" t="14136" r="55065" b="11043"/>
          <a:stretch/>
        </p:blipFill>
        <p:spPr>
          <a:xfrm>
            <a:off x="5148360" y="189000"/>
            <a:ext cx="3386160" cy="6021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rcRect l="13051" t="35101" r="28813" b="32056"/>
          <a:stretch/>
        </p:blipFill>
        <p:spPr>
          <a:xfrm>
            <a:off x="3059280" y="4110120"/>
            <a:ext cx="5905440" cy="2666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09880" y="30276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2524200">
            <a:off x="7821360" y="293760"/>
            <a:ext cx="457200" cy="609480"/>
          </a:xfrm>
          <a:prstGeom prst="downArrowCallout">
            <a:avLst>
              <a:gd name="adj1" fmla="val 25002"/>
              <a:gd name="adj2" fmla="val 33222"/>
              <a:gd name="adj3" fmla="val 22218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906600">
            <a:off x="3733560" y="456840"/>
            <a:ext cx="457200" cy="533520"/>
          </a:xfrm>
          <a:prstGeom prst="downArrowCallout">
            <a:avLst>
              <a:gd name="adj1" fmla="val 25002"/>
              <a:gd name="adj2" fmla="val 33222"/>
              <a:gd name="adj3" fmla="val 19449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2524200">
            <a:off x="2874960" y="3182760"/>
            <a:ext cx="485640" cy="601920"/>
          </a:xfrm>
          <a:prstGeom prst="downArrowCallout">
            <a:avLst>
              <a:gd name="adj1" fmla="val 25002"/>
              <a:gd name="adj2" fmla="val 33222"/>
              <a:gd name="adj3" fmla="val 20657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21496200">
            <a:off x="7696080" y="4113360"/>
            <a:ext cx="457200" cy="609480"/>
          </a:xfrm>
          <a:prstGeom prst="downArrowCallout">
            <a:avLst>
              <a:gd name="adj1" fmla="val 25002"/>
              <a:gd name="adj2" fmla="val 33222"/>
              <a:gd name="adj3" fmla="val 22218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3076200"/>
            <a:ext cx="3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24680" y="22680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403668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-356400"/>
            <a:ext cx="9144000" cy="30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3399"/>
                </a:solidFill>
                <a:latin typeface="Times New Roman"/>
              </a:rPr>
              <a:t>MEET dettagliat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l valore di 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jklm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è calcolato con la seguente formula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E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ijklmn = 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jkm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t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jklm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ijlm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N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jklm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10</a:t>
            </a:r>
            <a:r>
              <a:rPr b="0" lang="it-IT" sz="4400" spc="-1" strike="noStrike" baseline="30000">
                <a:solidFill>
                  <a:srgbClr val="333333"/>
                </a:solidFill>
                <a:latin typeface="Times New Roman"/>
              </a:rPr>
              <a:t>-6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977560"/>
            <a:ext cx="9144000" cy="35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jk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consumo giornaliero di carburante j, nell’imbarcazione k 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nella fase 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jkl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giorni di navigazione dell’imbarcazione k con motore l e usando carburante j nella fase m </a:t>
            </a:r>
            <a:r>
              <a:rPr b="0" i="1" lang="it-IT" sz="2400" spc="-1" strike="noStrike">
                <a:solidFill>
                  <a:srgbClr val="333333"/>
                </a:solidFill>
                <a:latin typeface="Garamond"/>
                <a:ea typeface="Times New Roman"/>
              </a:rPr>
              <a:t>(</a:t>
            </a:r>
            <a:r>
              <a:rPr b="0" i="1" lang="it-IT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TEMPI_NAVIGAZIONE</a:t>
            </a:r>
            <a:r>
              <a:rPr b="0" i="1" lang="it-IT" sz="2400" spc="-1" strike="noStrike">
                <a:solidFill>
                  <a:srgbClr val="333333"/>
                </a:solidFill>
                <a:latin typeface="Garamond"/>
                <a:ea typeface="Times New Roman"/>
              </a:rPr>
              <a:t>)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F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ijlm  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= F.E. medio dell’inquinante i, per il carburante j e motore l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nella fase m </a:t>
            </a:r>
            <a:r>
              <a:rPr b="0" i="1" lang="it-IT" sz="2400" spc="-1" strike="noStrike">
                <a:solidFill>
                  <a:srgbClr val="333333"/>
                </a:solidFill>
                <a:latin typeface="Garamond"/>
                <a:ea typeface="Times New Roman"/>
              </a:rPr>
              <a:t>(</a:t>
            </a:r>
            <a:r>
              <a:rPr b="0" i="1" lang="it-IT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FATT_EMISSIONE)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jkl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numero imbarcazioni k, con motore l e carburante j (</a:t>
            </a:r>
            <a:r>
              <a:rPr b="0" i="1" lang="it-IT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NUM_MOVIMENTI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79280" y="855720"/>
            <a:ext cx="8659800" cy="58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l valore di S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jkm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è calcolato con la seguente formula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jkm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= C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jk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* p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km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v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jk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= consumo giornaliero di combustibile j dell’imbarcazione k  al 100% della potenza (come funzione della stazza lorda)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[t/giorno]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km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= frazione del consumo di combustibile nella fase m per l’imbarcazione k (</a:t>
            </a:r>
            <a:r>
              <a:rPr b="0" i="1" lang="it-IT" sz="28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FRAZ_POT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MEET dettagliata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92360" y="525960"/>
            <a:ext cx="11527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it-IT" sz="4400" spc="-1" strike="noStrike" baseline="-25000">
                <a:solidFill>
                  <a:srgbClr val="ff0000"/>
                </a:solidFill>
                <a:latin typeface="Times New Roman"/>
              </a:rPr>
              <a:t>mk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9301" t="44384" r="25075" b="31927"/>
          <a:stretch/>
        </p:blipFill>
        <p:spPr>
          <a:xfrm>
            <a:off x="177840" y="2062080"/>
            <a:ext cx="8813880" cy="251928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sp>
        <p:nvSpPr>
          <p:cNvPr id="123" name=""/>
          <p:cNvSpPr/>
          <p:nvPr/>
        </p:nvSpPr>
        <p:spPr>
          <a:xfrm flipH="1">
            <a:off x="2627640" y="1357920"/>
            <a:ext cx="1323360" cy="11210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80400" y="1387440"/>
            <a:ext cx="1372320" cy="1060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1146960"/>
            <a:ext cx="8659800" cy="51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l valore di C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jk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è calcolato con la seguente formula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C </a:t>
            </a:r>
            <a:r>
              <a:rPr b="0" lang="it-IT" sz="3400" spc="-1" strike="noStrike" baseline="-25000">
                <a:solidFill>
                  <a:srgbClr val="333333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=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+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b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*GT +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c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*GT</a:t>
            </a:r>
            <a:r>
              <a:rPr b="0" lang="it-IT" sz="34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 +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d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*GT</a:t>
            </a:r>
            <a:r>
              <a:rPr b="0" lang="it-IT" sz="3400" spc="-1" strike="noStrike" baseline="30000">
                <a:solidFill>
                  <a:srgbClr val="333333"/>
                </a:solidFill>
                <a:latin typeface="Times New Roman"/>
              </a:rPr>
              <a:t>3 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+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*GT</a:t>
            </a:r>
            <a:r>
              <a:rPr b="0" lang="it-IT" sz="3400" spc="-1" strike="noStrike" baseline="30000">
                <a:solidFill>
                  <a:srgbClr val="333333"/>
                </a:solidFill>
                <a:latin typeface="Times New Roman"/>
              </a:rPr>
              <a:t>4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v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,b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,c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,d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,</a:t>
            </a: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= coefficienti tabellati nella metodologia </a:t>
            </a:r>
            <a:r>
              <a:rPr b="0" lang="it-IT" sz="2800" spc="-1" strike="noStrike">
                <a:solidFill>
                  <a:srgbClr val="333333"/>
                </a:solidFill>
                <a:latin typeface="Garamond"/>
                <a:ea typeface="Times New Roman"/>
              </a:rPr>
              <a:t>(</a:t>
            </a:r>
            <a:r>
              <a:rPr b="0" i="1" lang="it-IT" sz="28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CONSUMI</a:t>
            </a:r>
            <a:r>
              <a:rPr b="0" lang="it-IT" sz="2800" spc="-1" strike="noStrike">
                <a:solidFill>
                  <a:srgbClr val="333333"/>
                </a:solidFill>
                <a:latin typeface="Garamond"/>
                <a:ea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GT = stazza lorda dell’imbarcazione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[t]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Garamond"/>
                <a:ea typeface="Times New Roman"/>
              </a:rPr>
              <a:t>(</a:t>
            </a:r>
            <a:r>
              <a:rPr b="0" i="1" lang="it-IT" sz="28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IMC</a:t>
            </a:r>
            <a:r>
              <a:rPr b="0" lang="it-IT" sz="2800" spc="-1" strike="noStrike">
                <a:solidFill>
                  <a:srgbClr val="333333"/>
                </a:solidFill>
                <a:latin typeface="Garamond"/>
                <a:ea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MEET dettagliata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4T11:34:14Z</dcterms:created>
  <dc:creator>Regione Lombardia</dc:creator>
  <dc:description/>
  <dc:language>en-US</dc:language>
  <cp:lastModifiedBy>amonguzzi</cp:lastModifiedBy>
  <cp:lastPrinted>2003-11-20T15:20:17Z</cp:lastPrinted>
  <dcterms:modified xsi:type="dcterms:W3CDTF">2008-05-06T12:58:00Z</dcterms:modified>
  <cp:revision>218</cp:revision>
  <dc:subject/>
  <dc:title>Nessun titolo diapositiva</dc:title>
</cp:coreProperties>
</file>