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78D-3ACD-4FD0-A78E-AC54D487A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E1C6-56A9-433E-8435-CC65307A6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366D-C678-4AB5-85B9-3ADAF7E3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3B1F-F637-42A9-A7FB-256B824F1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969E4-AAD6-44B7-8B79-E429A27A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EC92F-56FD-4EF3-9529-4736289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CB3D6-96B7-4FFC-B7DF-18305B38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E2CD3-20F8-4C96-BB51-FED0F15BB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C8E6-2C2A-40C9-BEC9-C16B8CE3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9E04-F4B3-45CC-B4CC-60C4DCBB9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D21EC-06C2-47C7-8C5B-F1EE730F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A0EE-0078-43CE-B74D-D6D581876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CEBF5-1181-411A-94BF-7D43B8D3C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AE77B-0C64-40D6-AAEA-6D810D95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EDC96-62A0-4568-9F88-511E13CD5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925B5-9A22-43FC-9368-ED1CF2837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33C9F-B6A6-4B8B-8BAB-86ABB6C72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B163-20C9-4FE9-BF40-5D49A6AB9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4B97-69AB-4C3A-9858-F5FF31EF9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F5BD-A9A3-4FC3-AF11-975C5E23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2270-EBA8-47B5-AECA-B128405DE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C878-2A1F-4790-8A61-0050DFB79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23C0-440B-40B9-9431-19F9F9F3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C8A6-80B7-48F0-8F49-A2B5B6B77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DECAB-8E7C-49EF-BDDF-B44CDE03F997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5BBF-1793-481A-8297-D493858AE616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ec.europa.eu/environment/air/pdf/chapter2_ship_emissions.pdf" TargetMode="External"/><Relationship Id="rId2" Type="http://schemas.openxmlformats.org/officeDocument/2006/relationships/hyperlink" Target="http://ec.europa.eu/environment/air/pdf/chapter2_ship_emissions.pdf" TargetMode="External"/><Relationship Id="rId3" Type="http://schemas.openxmlformats.org/officeDocument/2006/relationships/hyperlink" Target="http://ec.europa.eu/environment/air/pdf/chapter2_ship_emissions.pdf" TargetMode="External"/><Relationship Id="rId4" Type="http://schemas.openxmlformats.org/officeDocument/2006/relationships/hyperlink" Target="http://ec.europa.eu/environment/air/pdf/chapter2_ship_emissions.pdf" TargetMode="External"/><Relationship Id="rId5" Type="http://schemas.openxmlformats.org/officeDocument/2006/relationships/hyperlink" Target="http://ec.europa.eu/environment/air/pdf/chapter2_ship_emissions.pdf" TargetMode="External"/><Relationship Id="rId6" Type="http://schemas.openxmlformats.org/officeDocument/2006/relationships/hyperlink" Target="http://ec.europa.eu/environment/air/pdf/chapter2_ship_emissions.pdf" TargetMode="External"/><Relationship Id="rId7" Type="http://schemas.openxmlformats.org/officeDocument/2006/relationships/hyperlink" Target="http://ec.europa.eu/environment/air/pdf/chapter2_ship_emissions.pdf" TargetMode="External"/><Relationship Id="rId8" Type="http://schemas.openxmlformats.org/officeDocument/2006/relationships/hyperlink" Target="http://ec.europa.eu/environment/air/pdf/chapter2_ship_emissions.pdf" TargetMode="External"/><Relationship Id="rId9" Type="http://schemas.openxmlformats.org/officeDocument/2006/relationships/hyperlink" Target="http://ec.europa.eu/environment/air/pdf/chapter2_ship_emissions.pdf" TargetMode="External"/><Relationship Id="rId10" Type="http://schemas.openxmlformats.org/officeDocument/2006/relationships/hyperlink" Target="http://ec.europa.eu/environment/air/pdf/chapter2_ship_emissions.pdf" TargetMode="External"/><Relationship Id="rId11" Type="http://schemas.openxmlformats.org/officeDocument/2006/relationships/hyperlink" Target="http://ec.europa.eu/environment/air/pdf/chapter2_ship_emissions.pdf" TargetMode="External"/><Relationship Id="rId1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3520" y="2438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2647080"/>
            <a:ext cx="91440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MODULO PORTI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Times New Roman"/>
              </a:rPr>
              <a:t>Palmanova, 15 aprile 2008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rcRect l="4800" t="6266" r="4014" b="6009"/>
          <a:stretch/>
        </p:blipFill>
        <p:spPr>
          <a:xfrm>
            <a:off x="1547640" y="549360"/>
            <a:ext cx="6193080" cy="456408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195640" y="-216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</a:rPr>
              <a:t>a     b        c         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301" t="16454" r="10066" b="41616"/>
          <a:stretch/>
        </p:blipFill>
        <p:spPr>
          <a:xfrm>
            <a:off x="-1440" y="1771560"/>
            <a:ext cx="9145440" cy="3770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31" name=""/>
          <p:cNvSpPr/>
          <p:nvPr/>
        </p:nvSpPr>
        <p:spPr>
          <a:xfrm>
            <a:off x="2195640" y="2276640"/>
            <a:ext cx="50472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84360" y="620640"/>
            <a:ext cx="647640" cy="17287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0720" y="620640"/>
            <a:ext cx="14292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788000" y="620640"/>
            <a:ext cx="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348000" y="620640"/>
            <a:ext cx="360360" cy="16560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106488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90720" y="152388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7200" y="595656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e il carburante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920" y="689040"/>
            <a:ext cx="8569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entre la struttura prevede che i F.E siano disponibili per ogni associazione di carburante, motore e fase, i FE utilizzati sono indipendenti dal tipo di motore e dal tipo di combustibile utilizzato e sono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unzione esclusivamente del tipo di imbarcazione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e d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fase operativa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. Il sistema permette però la possibilità di inserire dati più accurati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so sia mancante il tipo di carburante (j), il tipo di imbarcazione (k) o il tipo di motore (l) si utilizza l’id_comb, l’id_tipo_imbarcazione e l’id_tipo_motore corrispondente a  99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79848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1280" y="1682640"/>
            <a:ext cx="1035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.E</a:t>
            </a:r>
            <a:r>
              <a:rPr b="0" lang="en-US" sz="2800" spc="-1" strike="noStrike">
                <a:solidFill>
                  <a:srgbClr val="004c2b"/>
                </a:solidFill>
                <a:latin typeface="Times New Roman"/>
              </a:rPr>
              <a:t>.</a:t>
            </a:r>
            <a:r>
              <a:rPr b="0" lang="en-US" sz="2800" spc="-1" strike="noStrike" baseline="-25000">
                <a:solidFill>
                  <a:srgbClr val="ff0000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382760" y="-39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27041" t="17901" r="25984" b="11966"/>
          <a:stretch/>
        </p:blipFill>
        <p:spPr>
          <a:xfrm>
            <a:off x="1380960" y="152280"/>
            <a:ext cx="7305840" cy="655164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48" name=""/>
          <p:cNvSpPr/>
          <p:nvPr/>
        </p:nvSpPr>
        <p:spPr>
          <a:xfrm>
            <a:off x="1295280" y="0"/>
            <a:ext cx="167652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371600" y="152280"/>
            <a:ext cx="1600200" cy="3812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200400" y="6019920"/>
            <a:ext cx="2819520" cy="68580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457200"/>
            <a:ext cx="1676520" cy="6094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5651640" y="692280"/>
            <a:ext cx="576000" cy="19447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43000" y="1219320"/>
            <a:ext cx="0" cy="380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34960" y="4561560"/>
            <a:ext cx="1249920" cy="649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4800600" y="4648320"/>
            <a:ext cx="644400" cy="6094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2438280" y="2514600"/>
            <a:ext cx="648000" cy="6858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538280"/>
            <a:ext cx="213372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C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</a:t>
            </a: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 </a:t>
            </a:r>
            <a:br>
              <a:rPr sz="20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consumo max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514840" y="4130640"/>
            <a:ext cx="1095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F.E.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612240" y="5968800"/>
            <a:ext cx="2160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missione</a:t>
            </a:r>
            <a:r>
              <a:rPr b="0" lang="en-US" sz="32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1" lang="en-US" sz="2800" spc="-1" strike="noStrike" baseline="-25000">
                <a:solidFill>
                  <a:srgbClr val="333333"/>
                </a:solidFill>
                <a:latin typeface="Times New Roman"/>
              </a:rPr>
              <a:t>k 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79800" y="531000"/>
            <a:ext cx="168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Stazza lord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47640" y="3978000"/>
            <a:ext cx="3183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  consumo effettiv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393640" y="1539000"/>
            <a:ext cx="228384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4c2b"/>
                </a:solidFill>
                <a:latin typeface="Times New Roman"/>
              </a:rPr>
              <a:t>P</a:t>
            </a:r>
            <a:r>
              <a:rPr b="1" lang="it-IT" sz="2800" spc="-1" strike="noStrike" baseline="-25000">
                <a:solidFill>
                  <a:srgbClr val="004c2b"/>
                </a:solidFill>
                <a:latin typeface="Times New Roman"/>
              </a:rPr>
              <a:t>km</a:t>
            </a:r>
            <a:br>
              <a:rPr sz="2800"/>
            </a:b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frazione potenz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371600" y="2438280"/>
            <a:ext cx="609480" cy="76212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81840" y="329040"/>
            <a:ext cx="2759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 tipo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tipo fa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0042b"/>
                </a:solidFill>
                <a:latin typeface="Times New Roman"/>
              </a:rPr>
              <a:t>j </a:t>
            </a:r>
            <a:r>
              <a:rPr b="0" lang="en-US" sz="2400" spc="-1" strike="noStrike">
                <a:solidFill>
                  <a:srgbClr val="004c2b"/>
                </a:solidFill>
                <a:latin typeface="Times New Roman"/>
              </a:rPr>
              <a:t>  combustibi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09680" y="3200400"/>
            <a:ext cx="0" cy="78120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648320" y="5562720"/>
            <a:ext cx="0" cy="4334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68160" y="4968720"/>
            <a:ext cx="865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10000" y="5121000"/>
            <a:ext cx="8316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1" lang="it-IT" sz="2800" spc="-1" strike="noStrike" baseline="-25000">
                <a:solidFill>
                  <a:srgbClr val="333333"/>
                </a:solidFill>
                <a:latin typeface="Times New Roman"/>
              </a:rPr>
              <a:t>k</a:t>
            </a:r>
            <a:r>
              <a:rPr b="1" lang="it-IT" sz="1800" spc="-1" strike="noStrike" baseline="-25000">
                <a:solidFill>
                  <a:srgbClr val="333333"/>
                </a:solidFill>
                <a:latin typeface="Times New Roman"/>
              </a:rPr>
              <a:t>(GT)</a:t>
            </a:r>
            <a:endParaRPr b="0" lang="en-US" sz="1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5486400"/>
            <a:ext cx="1684440" cy="302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4932360" y="5410080"/>
            <a:ext cx="858960" cy="106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1600200"/>
            <a:ext cx="990720" cy="53352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71800" y="15238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038480"/>
            <a:ext cx="106704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400" y="419112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5181480"/>
            <a:ext cx="1143000" cy="60984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943600" y="5029200"/>
            <a:ext cx="1143000" cy="609480"/>
          </a:xfrm>
          <a:prstGeom prst="ellipse">
            <a:avLst/>
          </a:prstGeom>
          <a:noFill/>
          <a:ln w="158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715000" y="2283480"/>
            <a:ext cx="327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Elaborati tenendo conto dei motori e del carburante principalmente associati ad un certo tipo di imbarcazione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2057400"/>
            <a:ext cx="3581280" cy="190512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638680" y="2209680"/>
            <a:ext cx="3353040" cy="1447920"/>
          </a:xfrm>
          <a:prstGeom prst="wedgeRectCallout">
            <a:avLst>
              <a:gd name="adj1" fmla="val -43518"/>
              <a:gd name="adj2" fmla="val 82675"/>
            </a:avLst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1859400"/>
            <a:ext cx="8642160" cy="44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Dall’esecuzione del sopracitato algoritmo si generano 2 tabell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DETTAGLI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 PO_RIS_ DETTAGLIO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uddivise per inquinante i, distinte per carburante j, tipo di imbarcazione k, tipo di motore l e fase operativa m. Nella tabella si riporta, al posto della nazionalità, l’attività SNAP corrispondente ed anche l’ID_IMC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411280" y="452160"/>
            <a:ext cx="398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500480"/>
            <a:ext cx="8497800" cy="39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PO_RIS_INTERMED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vengono scritte le emission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totali per inquinante i distinte solo per carburante j e tipo di imbarcazione k; viene indicata anche l’attività SNAP corrisponde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tabella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TAB_OUTPUT</a:t>
            </a:r>
            <a:r>
              <a:rPr b="0" i="1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si fa la somma di tutte le emissioni, mettendo come tipo PO e sommando per tipo di attività (399 e 401), combustibile e inquinant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411280" y="452160"/>
            <a:ext cx="3608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63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Raccolta da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116000" y="1413000"/>
          <a:ext cx="7201080" cy="4133880"/>
        </p:xfrm>
        <a:graphic>
          <a:graphicData uri="http://schemas.openxmlformats.org/drawingml/2006/table">
            <a:tbl>
              <a:tblPr/>
              <a:tblGrid>
                <a:gridCol w="3384720"/>
                <a:gridCol w="3816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FO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1368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1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Tipi di imbarcazione e stazza lord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2.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Consumo giornaliero di carburant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Metodologia dettagliata MEET – Trozzi, Vaccaro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70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3.</a:t>
                      </a:r>
                      <a:r>
                        <a:rPr b="0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Giorni di permanenza delle imbarcazioni  in ogni fas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Dati Autorità Portuale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5760">
                      <a:solidFill>
                        <a:srgbClr val="333333"/>
                      </a:solidFill>
                    </a:lnB>
                    <a:noFill/>
                  </a:tcPr>
                </a:tc>
              </a:tr>
              <a:tr h="1618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4.</a:t>
                      </a:r>
                      <a:r>
                        <a:rPr b="0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 Fattori di emissione per inquinante, </a:t>
                      </a:r>
                      <a:r>
                        <a:rPr b="1" lang="en-US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in funzione del tipo di nave e della fase in cui si trova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333333"/>
                      </a:solidFill>
                    </a:lnL>
                    <a:lnR w="576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2000" spc="-1" strike="noStrike">
                          <a:solidFill>
                            <a:srgbClr val="333333"/>
                          </a:solidFill>
                          <a:latin typeface="Times New Roman"/>
                        </a:rPr>
                        <a:t>European Commission – Quantification of emissions from ships associated with ship movements between ports in the european community – luglio 2002</a:t>
                      </a:r>
                      <a:endParaRPr b="0" lang="en-US" sz="2000" spc="-1" strike="noStrike">
                        <a:solidFill>
                          <a:srgbClr val="333333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33"/>
                      </a:solidFill>
                    </a:lnL>
                    <a:lnR w="13680">
                      <a:solidFill>
                        <a:srgbClr val="333333"/>
                      </a:solidFill>
                    </a:lnR>
                    <a:lnT w="5760">
                      <a:solidFill>
                        <a:srgbClr val="333333"/>
                      </a:solidFill>
                    </a:lnT>
                    <a:lnB w="13680">
                      <a:solidFill>
                        <a:srgbClr val="33333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1" name=""/>
          <p:cNvSpPr/>
          <p:nvPr/>
        </p:nvSpPr>
        <p:spPr>
          <a:xfrm>
            <a:off x="1042920" y="5820840"/>
            <a:ext cx="7201080" cy="703800"/>
          </a:xfrm>
          <a:prstGeom prst="rect">
            <a:avLst/>
          </a:prstGeom>
          <a:solidFill>
            <a:srgbClr val="ff6600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2"/>
              </a:rPr>
              <a:t>ec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3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4"/>
              </a:rPr>
              <a:t>europa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5"/>
              </a:rPr>
              <a:t>.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6"/>
              </a:rPr>
              <a:t>eu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7"/>
              </a:rPr>
              <a:t>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8"/>
              </a:rPr>
              <a:t>environment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9"/>
              </a:rPr>
              <a:t>/air/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0"/>
              </a:rPr>
              <a:t>pdf</a:t>
            </a:r>
            <a:r>
              <a:rPr b="0" lang="it-IT" sz="2000" spc="-1" strike="noStrike" u="sng">
                <a:solidFill>
                  <a:srgbClr val="bdd7e5"/>
                </a:solidFill>
                <a:uFillTx/>
                <a:latin typeface="Times New Roman"/>
                <a:hlinkClick r:id="rId11"/>
              </a:rPr>
              <a:t>/chapter2_ship_emissions.pdf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227640" y="5516640"/>
            <a:ext cx="289080" cy="576360"/>
          </a:xfrm>
          <a:prstGeom prst="downArrow">
            <a:avLst>
              <a:gd name="adj1" fmla="val 50000"/>
              <a:gd name="adj2" fmla="val 49844"/>
            </a:avLst>
          </a:prstGeom>
          <a:solidFill>
            <a:srgbClr val="333399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16000" y="403200"/>
            <a:ext cx="66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Incertezze/precisazion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484640"/>
            <a:ext cx="8424720" cy="44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SO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: Emilia Romagna ha segnalato che sembrano alti (elevato tenore zolfo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F.E. per CO: potremmo utilizzare lo stesso approccio adottato dalla Regione Veneto, che ha usato un unico fattore di emissione medio (tratto dal Guidebook Corinair) indipendente dal tipo di nave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 algn="just">
              <a:spcBef>
                <a:spcPts val="1749"/>
              </a:spcBef>
              <a:buClr>
                <a:srgbClr val="333333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 campo TEMPO_NAVIGAZIONE  viene inserito il valore medio della somma dei tempi impiegati dalle imbarcazioni con stesso ID_IMC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352440"/>
            <a:ext cx="8964720" cy="61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odulo porti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La metodologia di stima è quella contenuta nell'Atmospheric Emission Inventory Guidebook (EEA, 2007), applicata ed implementata nel 2006 dal Dipartimento Provinciale di Venezia di A.R.P.A.V. (</a:t>
            </a:r>
            <a:r>
              <a:rPr b="0" i="1" lang="it-IT" sz="2000" spc="-1" strike="noStrike">
                <a:solidFill>
                  <a:srgbClr val="333333"/>
                </a:solidFill>
                <a:latin typeface="Times New Roman"/>
              </a:rPr>
              <a:t>“Le emissioni da attività portuale” - febbraio 2007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 - 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</a:rPr>
              <a:t>http://www.arpa.veneto.it/dapve/docs/Relazione_tecnica_emissioni_portuali.pdf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). Tale implementazione, partendo dall'approccio MEET (Methodology for Estimate air pollutant Emissions from Transport) proposto da Trozzi e Vaccaro (1998, 2006), prevede di utilizzare dei fattori di emissione indipendenti dal tipo di motore installato sulle imbarcazion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n base alla classificazione Corinair le emissioni dai porti sono suddivise nelle seguenti attività 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imes New Roman"/>
              </a:rPr>
              <a:t>- 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2  Traffico marittimo 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080404  Traffico marittimo internaziona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-570240"/>
            <a:ext cx="91440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1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333333"/>
                </a:solidFill>
                <a:latin typeface="Symbol"/>
                <a:ea typeface="Symbol"/>
              </a:rPr>
              <a:t>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n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2045520"/>
            <a:ext cx="849636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= emissione totale dell’inquinante i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inquin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j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 = carburant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k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imbarcazion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l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tipo di motor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0042b"/>
                </a:solidFill>
                <a:latin typeface="Times New Roman"/>
              </a:rPr>
              <a:t>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fase operativa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di imbarcazioni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n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emissione totale dell’inquinante i dall’uso del carburante j, sulle n imbarcazioni di tipo k, con motore l,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nella fas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1800"/>
            <a:ext cx="91440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Verdana"/>
              </a:rPr>
              <a:t>Fasi operative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rcRect l="14926" t="18820" r="19438" b="10848"/>
          <a:stretch/>
        </p:blipFill>
        <p:spPr>
          <a:xfrm>
            <a:off x="179280" y="620640"/>
            <a:ext cx="7058160" cy="6050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rcRect l="13042" t="60765" r="60690" b="8700"/>
          <a:stretch/>
        </p:blipFill>
        <p:spPr>
          <a:xfrm>
            <a:off x="5724360" y="3879720"/>
            <a:ext cx="3203640" cy="29782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rot="11400">
            <a:off x="7465680" y="3124080"/>
            <a:ext cx="533520" cy="758880"/>
          </a:xfrm>
          <a:prstGeom prst="downArrowCallout">
            <a:avLst>
              <a:gd name="adj1" fmla="val 25002"/>
              <a:gd name="adj2" fmla="val 33222"/>
              <a:gd name="adj3" fmla="val 2370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467480" y="30459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92280"/>
            <a:ext cx="914400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11188" t="32673" r="49473" b="8700"/>
          <a:stretch/>
        </p:blipFill>
        <p:spPr>
          <a:xfrm>
            <a:off x="152280" y="380880"/>
            <a:ext cx="4210200" cy="5011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rcRect l="11173" t="14136" r="55065" b="11043"/>
          <a:stretch/>
        </p:blipFill>
        <p:spPr>
          <a:xfrm>
            <a:off x="5148360" y="189000"/>
            <a:ext cx="3386160" cy="6021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rcRect l="13051" t="35101" r="28813" b="32056"/>
          <a:stretch/>
        </p:blipFill>
        <p:spPr>
          <a:xfrm>
            <a:off x="3059280" y="4110120"/>
            <a:ext cx="5905440" cy="2666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809880" y="30276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2524200">
            <a:off x="7821360" y="2937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906600">
            <a:off x="3733560" y="456840"/>
            <a:ext cx="457200" cy="533520"/>
          </a:xfrm>
          <a:prstGeom prst="downArrowCallout">
            <a:avLst>
              <a:gd name="adj1" fmla="val 25002"/>
              <a:gd name="adj2" fmla="val 33222"/>
              <a:gd name="adj3" fmla="val 19449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2524200">
            <a:off x="2874960" y="3182760"/>
            <a:ext cx="485640" cy="601920"/>
          </a:xfrm>
          <a:prstGeom prst="downArrowCallout">
            <a:avLst>
              <a:gd name="adj1" fmla="val 25002"/>
              <a:gd name="adj2" fmla="val 33222"/>
              <a:gd name="adj3" fmla="val 20657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21496200">
            <a:off x="7696080" y="4113360"/>
            <a:ext cx="457200" cy="609480"/>
          </a:xfrm>
          <a:prstGeom prst="downArrowCallout">
            <a:avLst>
              <a:gd name="adj1" fmla="val 25002"/>
              <a:gd name="adj2" fmla="val 33222"/>
              <a:gd name="adj3" fmla="val 22218"/>
              <a:gd name="adj4" fmla="val 66667"/>
            </a:avLst>
          </a:prstGeom>
          <a:noFill/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48120" y="3076200"/>
            <a:ext cx="30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j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924680" y="226800"/>
            <a:ext cx="30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72400" y="4036680"/>
            <a:ext cx="22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042b"/>
                </a:solidFill>
                <a:latin typeface="Times New Roman"/>
              </a:rPr>
              <a:t>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576360" y="2411280"/>
            <a:ext cx="81547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53000" y="2484360"/>
            <a:ext cx="3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-356400"/>
            <a:ext cx="9144000" cy="30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E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ijkl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E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klmn =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t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ij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N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</a:rPr>
              <a:t>*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</a:rPr>
              <a:t> 10</a:t>
            </a:r>
            <a:r>
              <a:rPr b="0" lang="it-IT" sz="4400" spc="-1" strike="noStrike" baseline="30000">
                <a:solidFill>
                  <a:srgbClr val="333333"/>
                </a:solidFill>
                <a:latin typeface="Times New Roman"/>
              </a:rPr>
              <a:t>-6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2977560"/>
            <a:ext cx="914400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S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consumo giornaliero di carburante j, nell’imbarcazione k 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t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giorni di navigazione dell’imbarcazione k con motore l e usando carburante j 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TEMPI_NAVIGAZIONE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ijlm  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= F.E. medio dell’inquinante i, per il carburante j e motore l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ella fase m </a:t>
            </a:r>
            <a:r>
              <a:rPr b="0" i="1" lang="it-IT" sz="24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ATT_EMISSIONE)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it-IT" sz="2400" spc="-1" strike="noStrike" baseline="-25000">
                <a:solidFill>
                  <a:srgbClr val="333333"/>
                </a:solidFill>
                <a:latin typeface="Times New Roman"/>
              </a:rPr>
              <a:t>jklm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 = numero imbarcazioni k, con motore l e carburante j (</a:t>
            </a:r>
            <a:r>
              <a:rPr b="0" i="1" lang="it-IT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NUM_MOVIMENTI</a:t>
            </a:r>
            <a:r>
              <a:rPr b="0" lang="it-IT" sz="2400" spc="-1" strike="noStrike">
                <a:solidFill>
                  <a:srgbClr val="333333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855720"/>
            <a:ext cx="8659800" cy="58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S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m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4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* p</a:t>
            </a:r>
            <a:r>
              <a:rPr b="0" lang="it-IT" sz="44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= consumo giornaliero di combustibile j dell’imbarcazione k  al 100% della potenza (come funzione della stazza lorda) 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[t/giorno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  <a:ea typeface="Times New Roman"/>
              </a:rPr>
              <a:t>km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= frazione del consumo di combustibile nella fase m per l’imbarcazione k 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FRAZ_POT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79280" y="6213960"/>
            <a:ext cx="86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92360" y="525960"/>
            <a:ext cx="11527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lang="it-IT" sz="4400" spc="-1" strike="noStrike" baseline="-25000">
                <a:solidFill>
                  <a:srgbClr val="ff0000"/>
                </a:solidFill>
                <a:latin typeface="Times New Roman"/>
              </a:rPr>
              <a:t>m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9301" t="44384" r="25075" b="31927"/>
          <a:stretch/>
        </p:blipFill>
        <p:spPr>
          <a:xfrm>
            <a:off x="177840" y="2062080"/>
            <a:ext cx="8813880" cy="251928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sp>
        <p:nvSpPr>
          <p:cNvPr id="123" name=""/>
          <p:cNvSpPr/>
          <p:nvPr/>
        </p:nvSpPr>
        <p:spPr>
          <a:xfrm flipH="1">
            <a:off x="2627640" y="1357920"/>
            <a:ext cx="1323360" cy="112104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80400" y="1387440"/>
            <a:ext cx="1372320" cy="106056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146960"/>
            <a:ext cx="8659800" cy="51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Il valore di C</a:t>
            </a:r>
            <a:r>
              <a:rPr b="0" lang="it-IT" sz="28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è calcolato con la seguente formula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C </a:t>
            </a:r>
            <a:r>
              <a:rPr b="0" lang="it-IT" sz="3400" spc="-1" strike="noStrike" baseline="-25000">
                <a:solidFill>
                  <a:srgbClr val="333333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=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b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c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 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d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3 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0" lang="it-IT" sz="34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34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3400" spc="-1" strike="noStrike">
                <a:solidFill>
                  <a:srgbClr val="333333"/>
                </a:solidFill>
                <a:latin typeface="Times New Roman"/>
              </a:rPr>
              <a:t>*GT</a:t>
            </a:r>
            <a:r>
              <a:rPr b="0" lang="it-IT" sz="3400" spc="-1" strike="noStrike" baseline="30000">
                <a:solidFill>
                  <a:srgbClr val="333333"/>
                </a:solidFill>
                <a:latin typeface="Times New Roman"/>
              </a:rPr>
              <a:t>4</a:t>
            </a: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ve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a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b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c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,d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,</a:t>
            </a:r>
            <a:r>
              <a:rPr b="0" lang="it-IT" sz="2800" spc="-1" strike="noStrike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it-IT" sz="2800" spc="-1" strike="noStrike" baseline="-25000">
                <a:solidFill>
                  <a:srgbClr val="3333ff"/>
                </a:solidFill>
                <a:latin typeface="Times New Roman"/>
              </a:rPr>
              <a:t>jk</a:t>
            </a:r>
            <a:r>
              <a:rPr b="0" lang="it-IT" sz="4400" spc="-1" strike="noStrike">
                <a:solidFill>
                  <a:srgbClr val="004c2b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= coefficienti tabellati nella metodologia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CONSUMI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GT = stazza lorda dell’imbarcazione</a:t>
            </a:r>
            <a:r>
              <a:rPr b="1" lang="it-IT" sz="2800" spc="-1" strike="noStrike">
                <a:solidFill>
                  <a:srgbClr val="333333"/>
                </a:solidFill>
                <a:latin typeface="Times New Roman"/>
              </a:rPr>
              <a:t>[t]</a:t>
            </a:r>
            <a:r>
              <a:rPr b="0" lang="it-IT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(</a:t>
            </a:r>
            <a:r>
              <a:rPr b="0" i="1" lang="it-IT" sz="2800" spc="-1" strike="noStrike">
                <a:solidFill>
                  <a:srgbClr val="333399"/>
                </a:solidFill>
                <a:latin typeface="Garamond"/>
                <a:ea typeface="Times New Roman"/>
              </a:rPr>
              <a:t>tabella PO_IMC</a:t>
            </a:r>
            <a:r>
              <a:rPr b="0" lang="it-IT" sz="2800" spc="-1" strike="noStrike">
                <a:solidFill>
                  <a:srgbClr val="333333"/>
                </a:solidFill>
                <a:latin typeface="Garamond"/>
                <a:ea typeface="Times New Roman"/>
              </a:rPr>
              <a:t>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6705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99"/>
                </a:solidFill>
                <a:latin typeface="Times New Roman"/>
              </a:rPr>
              <a:t>MEET dettagliata</a:t>
            </a:r>
            <a:endParaRPr b="0" lang="en-US" sz="40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4T11:34:14Z</dcterms:created>
  <dc:creator>Regione Lombardia</dc:creator>
  <dc:description/>
  <dc:language>en-US</dc:language>
  <cp:lastModifiedBy>amonguzzi</cp:lastModifiedBy>
  <cp:lastPrinted>2003-11-20T15:20:17Z</cp:lastPrinted>
  <dcterms:modified xsi:type="dcterms:W3CDTF">2008-05-06T12:58:00Z</dcterms:modified>
  <cp:revision>218</cp:revision>
  <dc:subject/>
  <dc:title>Nessun titolo diapositiva</dc:title>
</cp:coreProperties>
</file>