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5458-E29E-469B-B3DB-1AB501500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E565-084E-4737-9A7F-5D764233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8235-5AB9-48E6-BAE1-46BE2685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9C9D-93F6-4C3A-B0DD-CEB053B38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0E3F-D00B-4216-9701-30845863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8915-E90F-49FB-9CD1-64AB37DD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8E27-2EFA-4E05-BC87-9D1CBBE47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9E7C-496D-4251-A1FD-B45A96CF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2DA5-5D61-43E6-9311-859D8E992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24F-51F1-47F2-97F9-E7FFE1D1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E659-6BBC-442C-92E4-1B418D7F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9BEB-7560-45DD-8D70-7D0A402C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A445-6204-405E-B676-65914FA99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229600" y="152280"/>
            <a:ext cx="730080" cy="657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828800" y="2514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Il modulo serbato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44956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0" t="0" r="32814" b="28124"/>
          <a:stretch/>
        </p:blipFill>
        <p:spPr>
          <a:xfrm>
            <a:off x="380880" y="1219320"/>
            <a:ext cx="6553440" cy="52578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rcRect l="0" t="0" r="21876" b="55210"/>
          <a:stretch/>
        </p:blipFill>
        <p:spPr>
          <a:xfrm>
            <a:off x="1447920" y="990720"/>
            <a:ext cx="7619760" cy="3276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rcRect l="0" t="0" r="24220" b="40626"/>
          <a:stretch/>
        </p:blipFill>
        <p:spPr>
          <a:xfrm>
            <a:off x="1600200" y="2286000"/>
            <a:ext cx="73915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838224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PI (American Petroleum Institute) adottata dall’E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missioni di COV da serbato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vertic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o, cupol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fisso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orizzontal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rato, superfici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s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38280" y="114300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Metodolo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2680" y="320040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2680" y="4876920"/>
            <a:ext cx="533520" cy="1143000"/>
          </a:xfrm>
          <a:custGeom>
            <a:avLst/>
            <a:gdLst>
              <a:gd name="textAreaLeft" fmla="*/ 340920 w 533520"/>
              <a:gd name="textAreaRight" fmla="*/ 533880 w 5335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51" name="serb_petr" descr=""/>
          <p:cNvPicPr/>
          <p:nvPr/>
        </p:nvPicPr>
        <p:blipFill>
          <a:blip r:embed="rId3"/>
          <a:stretch/>
        </p:blipFill>
        <p:spPr>
          <a:xfrm>
            <a:off x="7467480" y="5688000"/>
            <a:ext cx="1524240" cy="1014480"/>
          </a:xfrm>
          <a:prstGeom prst="rect">
            <a:avLst/>
          </a:prstGeom>
          <a:ln w="0">
            <a:noFill/>
          </a:ln>
        </p:spPr>
      </p:pic>
      <p:pic>
        <p:nvPicPr>
          <p:cNvPr id="52" name="serbatoi_interrati_2" descr=""/>
          <p:cNvPicPr/>
          <p:nvPr/>
        </p:nvPicPr>
        <p:blipFill>
          <a:blip r:embed="rId4"/>
          <a:stretch/>
        </p:blipFill>
        <p:spPr>
          <a:xfrm>
            <a:off x="6019920" y="4773600"/>
            <a:ext cx="1447560" cy="9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ab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371600"/>
            <a:ext cx="82296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SERBATO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geometr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N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CO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TIPO_ACCESS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ACCESSORI_US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VELOCITA_V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STOCCA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atteristiche mater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MATERIE_INQUINANT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llegamento materia/CO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EMISSIONE_MAT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ntità moviment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_RIS_INTERMEDI_SERBATOI 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ultati per serbatoio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ilimento, attività, tipo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issione (ES, EM, 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2438280"/>
            <a:ext cx="2819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P_STABIL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Verdana"/>
              </a:rPr>
              <a:t>T_TEMP_RAD_U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1143000"/>
            <a:ext cx="8153280" cy="56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attività SNAP sotto cui vanno inseriti i serbatoi son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1.4 Immagazzinamento e trasporto di prodotti nelle raffineri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benzina e altri prodotti (cherose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5.22 Immagazzinamento e trasporto di prodotti chimici organic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oluene, acet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.4.2 Altro trasporto interno e stoccagg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gregg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tra attività sui serbatoi (ma che non dà luogo a emissioni di COV)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4.4.15 Immagazzinamento e trasporto di prodotti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chimici inorgan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erbatoi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ogo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80880" y="12952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l modulo serbatoi è direttamente collegato al modulo pun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0" t="0" r="21093" b="46877"/>
          <a:stretch/>
        </p:blipFill>
        <p:spPr>
          <a:xfrm>
            <a:off x="762120" y="2133720"/>
            <a:ext cx="7696080" cy="3886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038480" y="1676520"/>
            <a:ext cx="304920" cy="2438280"/>
          </a:xfrm>
          <a:prstGeom prst="downArrow">
            <a:avLst>
              <a:gd name="adj1" fmla="val 50000"/>
              <a:gd name="adj2" fmla="val 199911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8120" y="4114800"/>
            <a:ext cx="2286000" cy="609480"/>
          </a:xfrm>
          <a:prstGeom prst="ellipse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serbatoi" descr=""/>
          <p:cNvPicPr/>
          <p:nvPr/>
        </p:nvPicPr>
        <p:blipFill>
          <a:blip r:embed="rId3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68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7621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ipologie emiss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752480"/>
            <a:ext cx="7924680" cy="52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E 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toccaggio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ovimentazione 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=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0" i="1" lang="it-IT" sz="2400" spc="-1" strike="noStrike">
                <a:solidFill>
                  <a:srgbClr val="3333cc"/>
                </a:solidFill>
                <a:latin typeface="Verdana"/>
              </a:rPr>
              <a:t> + E</a:t>
            </a:r>
            <a:r>
              <a:rPr b="0" i="1" lang="it-IT" sz="2400" spc="-1" strike="noStrike" baseline="-25000">
                <a:solidFill>
                  <a:srgbClr val="3333cc"/>
                </a:solidFill>
                <a:latin typeface="Verdan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Tetto fisso interrato: solo movimen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f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h, D, T, rad, P, PM, altri parametri…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T, Q, d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3333cc"/>
                </a:solidFill>
                <a:uFillTx/>
                <a:latin typeface="Verdana"/>
              </a:rPr>
              <a:t>Serbatoio a tetto galleggiante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v, D, PM,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Q, 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f(PM, P, v, accessor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232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mens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67080" y="129528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ann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1952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167652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553080" y="388620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4038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18749" b="17517"/>
          <a:stretch/>
        </p:blipFill>
        <p:spPr>
          <a:xfrm>
            <a:off x="380880" y="171360"/>
            <a:ext cx="85345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79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905120" y="838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Verdana"/>
              </a:rPr>
              <a:t>Tasto “speciazion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0" r="10155" b="15795"/>
          <a:stretch/>
        </p:blipFill>
        <p:spPr>
          <a:xfrm>
            <a:off x="533520" y="1415880"/>
            <a:ext cx="82296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erbatoi" descr=""/>
          <p:cNvPicPr/>
          <p:nvPr/>
        </p:nvPicPr>
        <p:blipFill>
          <a:blip r:embed="rId1"/>
          <a:stretch/>
        </p:blipFill>
        <p:spPr>
          <a:xfrm>
            <a:off x="7848720" y="152280"/>
            <a:ext cx="1143000" cy="801720"/>
          </a:xfrm>
          <a:prstGeom prst="rect">
            <a:avLst/>
          </a:prstGeom>
          <a:ln w="0">
            <a:noFill/>
          </a:ln>
        </p:spPr>
      </p:pic>
      <p:pic>
        <p:nvPicPr>
          <p:cNvPr id="83" name="logo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3114720" cy="8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0" t="0" r="24220" b="42708"/>
          <a:stretch/>
        </p:blipFill>
        <p:spPr>
          <a:xfrm>
            <a:off x="304920" y="1219320"/>
            <a:ext cx="7391160" cy="41907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rcRect l="0" t="0" r="33597" b="28124"/>
          <a:stretch/>
        </p:blipFill>
        <p:spPr>
          <a:xfrm>
            <a:off x="2438280" y="1371600"/>
            <a:ext cx="6477120" cy="5257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5800" y="3886200"/>
            <a:ext cx="198108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9T11:28:32Z</dcterms:created>
  <dc:creator>AFRACCAROLI</dc:creator>
  <dc:description/>
  <dc:language>en-US</dc:language>
  <cp:lastModifiedBy>MMORETTI</cp:lastModifiedBy>
  <dcterms:modified xsi:type="dcterms:W3CDTF">2006-05-09T13:11:14Z</dcterms:modified>
  <cp:revision>25</cp:revision>
  <dc:subject/>
  <dc:title>Presentazione di PowerPoint</dc:title>
</cp:coreProperties>
</file>