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AC4-3496-46E5-A565-B0BB100E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638-DDE1-4296-9051-C459EA33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6C0-8A38-433D-9209-7B9DACFD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EFD-2E43-412F-A0C4-6A47632C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3DD-B2E0-4867-AF28-801E67FA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2A84-B487-45DB-940C-31E85D92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13A4-1194-4089-B68D-75BB2255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6C0E-763C-4EF3-92F1-3D8CAFB4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DAD-58D8-40AA-9AA9-F72A7518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3C7-7A6C-4755-9456-D05BD7BF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136-2DE3-4A6B-ACCA-CD8F2E8A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C61-A427-4DB8-9C37-D8EBDF26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1DE4-8E2D-42D7-B0EE-D570ED1D8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30080" cy="65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28800" y="2514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l modulo serbato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495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0" r="32814" b="28124"/>
          <a:stretch/>
        </p:blipFill>
        <p:spPr>
          <a:xfrm>
            <a:off x="380880" y="1219320"/>
            <a:ext cx="6553440" cy="525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rcRect l="0" t="0" r="21876" b="55210"/>
          <a:stretch/>
        </p:blipFill>
        <p:spPr>
          <a:xfrm>
            <a:off x="1447920" y="990720"/>
            <a:ext cx="7619760" cy="327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rcRect l="0" t="0" r="24220" b="40626"/>
          <a:stretch/>
        </p:blipFill>
        <p:spPr>
          <a:xfrm>
            <a:off x="1600200" y="2286000"/>
            <a:ext cx="7391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752480"/>
            <a:ext cx="83822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PI (American Petroleum Institute) adottata dall’E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missioni di COV da serbato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vertic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o, cupol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fiss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rizzont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rato, superfici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11430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320040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87692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51" name="serb_petr" descr=""/>
          <p:cNvPicPr/>
          <p:nvPr/>
        </p:nvPicPr>
        <p:blipFill>
          <a:blip r:embed="rId3"/>
          <a:stretch/>
        </p:blipFill>
        <p:spPr>
          <a:xfrm>
            <a:off x="7467480" y="568800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52" name="serbatoi_interrati_2" descr=""/>
          <p:cNvPicPr/>
          <p:nvPr/>
        </p:nvPicPr>
        <p:blipFill>
          <a:blip r:embed="rId4"/>
          <a:stretch/>
        </p:blipFill>
        <p:spPr>
          <a:xfrm>
            <a:off x="6019920" y="4773600"/>
            <a:ext cx="144756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ab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37160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SERBATO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geometr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N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CO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CCESS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ACCESSORI_US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VELOCITA_V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STOCC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ma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INQUINANT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egamento materia/C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EMISSIONE_MAT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tità moviment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RIS_INTERMEDI_SERBATOI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ultati per serbatoio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ilimento, attività, tip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issione (ES, EM, 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438280"/>
            <a:ext cx="281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T_TEMP_RAD_U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1143000"/>
            <a:ext cx="8153280" cy="56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attività SNAP sotto cui vanno inseriti i serbatoi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1.4 Immagazzinamento e trasporto di prodotti nelle raffin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enzina e altri prodotti (cherose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5.22 Immagazzinamento e trasporto di prodotti chimici organic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oluene, ace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4.2 Altro trasporto interno e stoccagg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gregg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ra attività sui serbatoi (ma che non dà luogo a emissioni di COV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4.4.15 Immagazzinamento e trasporto di prodotti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mici inorgan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1295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modulo serbatoi è direttamente collegato al modulo punt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21093" b="46877"/>
          <a:stretch/>
        </p:blipFill>
        <p:spPr>
          <a:xfrm>
            <a:off x="762120" y="2133720"/>
            <a:ext cx="7696080" cy="3886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1676520"/>
            <a:ext cx="304920" cy="2438280"/>
          </a:xfrm>
          <a:prstGeom prst="downArrow">
            <a:avLst>
              <a:gd name="adj1" fmla="val 50000"/>
              <a:gd name="adj2" fmla="val 19991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4114800"/>
            <a:ext cx="2286000" cy="609480"/>
          </a:xfrm>
          <a:prstGeom prst="ellipse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erbatoi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6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ipologie emis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752480"/>
            <a:ext cx="7924680" cy="52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E 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toccaggio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ovimentazione 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Tetto fisso interrato: solo movim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fi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h, D, T, rad, P, PM, altri parametri…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T, Q, d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v, D, PM,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Q,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v, accesso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ens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nn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388620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4038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18749" b="17517"/>
          <a:stretch/>
        </p:blipFill>
        <p:spPr>
          <a:xfrm>
            <a:off x="380880" y="171360"/>
            <a:ext cx="853452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79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05120" y="838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Verdana"/>
              </a:rPr>
              <a:t>Tasto “speciazi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0" r="10155" b="15795"/>
          <a:stretch/>
        </p:blipFill>
        <p:spPr>
          <a:xfrm>
            <a:off x="533520" y="1415880"/>
            <a:ext cx="82296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3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0" r="24220" b="42708"/>
          <a:stretch/>
        </p:blipFill>
        <p:spPr>
          <a:xfrm>
            <a:off x="304920" y="1219320"/>
            <a:ext cx="7391160" cy="4190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0" t="0" r="33597" b="28124"/>
          <a:stretch/>
        </p:blipFill>
        <p:spPr>
          <a:xfrm>
            <a:off x="2438280" y="1371600"/>
            <a:ext cx="647712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3886200"/>
            <a:ext cx="198108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1:28:32Z</dcterms:created>
  <dc:creator>AFRACCAROLI</dc:creator>
  <dc:description/>
  <dc:language>en-US</dc:language>
  <cp:lastModifiedBy>MMORETTI</cp:lastModifiedBy>
  <dcterms:modified xsi:type="dcterms:W3CDTF">2006-05-09T13:11:14Z</dcterms:modified>
  <cp:revision>25</cp:revision>
  <dc:subject/>
  <dc:title>Presentazione di PowerPoint</dc:title>
</cp:coreProperties>
</file>