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FAF7-EF68-4C15-AF64-84AE18B3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5C73-827A-4F4A-8A67-ECF15ADA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9EA7-6057-4492-A683-24E83340C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6C30-B5AA-4648-BC8B-D399AA06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CC7C-813E-4AE2-9CDC-218D78C8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38CF-011B-4CC5-B13E-54DD7797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D495-568F-40FD-919B-155E299E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3DD6-09B8-4D8D-AB25-E4934C8A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3BC6-3CAB-497D-8B6C-FE1EFC62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A869-8725-4C43-BDFD-1395B0A9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5447-08FC-40E9-BF23-4FEBB28D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E56F-7621-429C-9466-4DC51931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A337-F35C-4B08-B24C-19B74AE2B60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295280" cy="126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895040"/>
            <a:ext cx="940752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E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ventario emission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Versione 5_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Modulo emissioni per ar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275256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34490" b="46877"/>
          <a:stretch/>
        </p:blipFill>
        <p:spPr>
          <a:xfrm>
            <a:off x="1332000" y="1703520"/>
            <a:ext cx="6389640" cy="3886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4000" y="1159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CEDURA EMISSIONI PER AR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SENZA DETTAGLIO CO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maschera di selezione provi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32079" b="38195"/>
          <a:stretch/>
        </p:blipFill>
        <p:spPr>
          <a:xfrm>
            <a:off x="1260360" y="1644480"/>
            <a:ext cx="6624720" cy="4521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4000" y="1159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CEDURA EMISSIONI PER AR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CON DETTAGLIO CO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maschera di selezione comuni e inquina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31840" y="281160"/>
            <a:ext cx="8732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assumendo, per il calcolo delle emissioni da traffico a livello di arco sono disponibili le opzion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vello provinci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vello comu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 diverso dettaglio per i risultati, che finiscono rispettivamente nelle tabel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L_TRAFF_ARCO_PROV_ATT_COM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L_TRAFF_ARCO_COMUNE_CO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temporaneamente vengono calcolati anche i risultati a livello comunale per tutti gli inquin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31840" y="281160"/>
            <a:ext cx="8912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TA 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 singolo arco vengono attribuite le sole emissioni con codice attivit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(autostrad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 (extraur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4 (autostr usura)      per pm10, pts 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5 (extraurb usura)   per pm10, pts 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indi NON le emissioni a freddo di tipo LSF che hanno codice attività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ttenzione: a seconda di come è stato impostato un flag nel codice, nelle tabelle dei risultati per arco potrebbero venire salvati solo i risultati dell’ultimo run cioè una sola provincia o un solo comune per vol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95280" y="4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GESTIONE LOCALE DEI RISULT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interrogazione i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0" b="5710"/>
          <a:stretch/>
        </p:blipFill>
        <p:spPr>
          <a:xfrm>
            <a:off x="611280" y="938160"/>
            <a:ext cx="826128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000" y="4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GESTIONE LOCALE DEI RISULT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interrogazione i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0" t="0" r="0" b="6684"/>
          <a:stretch/>
        </p:blipFill>
        <p:spPr>
          <a:xfrm>
            <a:off x="826920" y="1119240"/>
            <a:ext cx="782820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0" b="6684"/>
          <a:stretch/>
        </p:blipFill>
        <p:spPr>
          <a:xfrm>
            <a:off x="684360" y="1052640"/>
            <a:ext cx="8137440" cy="5694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OUTPUT: emissioni di PM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er arco stradale e settore in provincia di VAR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MAPP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missioni per arco di PM10 in provincia di Vare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88040" y="974880"/>
            <a:ext cx="5979600" cy="5838840"/>
            <a:chOff x="1688040" y="974880"/>
            <a:chExt cx="5979600" cy="58388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rcRect l="21942" t="5710" r="14567" b="11611"/>
            <a:stretch/>
          </p:blipFill>
          <p:spPr>
            <a:xfrm>
              <a:off x="1690560" y="974880"/>
              <a:ext cx="5977080" cy="58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688040" y="980280"/>
              <a:ext cx="1258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PM10 </a:t>
              </a: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(t/anno/km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4280"/>
            <a:ext cx="914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MAPP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missioni per arco di NO</a:t>
            </a:r>
            <a:r>
              <a:rPr b="0" lang="it-IT" sz="2400" spc="-1" strike="noStrike" baseline="-25000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in provincia di Vare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92360" y="1010520"/>
            <a:ext cx="5975280" cy="5847480"/>
            <a:chOff x="1692360" y="1010520"/>
            <a:chExt cx="5975280" cy="5847480"/>
          </a:xfrm>
        </p:grpSpPr>
        <p:pic>
          <p:nvPicPr>
            <p:cNvPr id="90" name="" descr=""/>
            <p:cNvPicPr/>
            <p:nvPr/>
          </p:nvPicPr>
          <p:blipFill>
            <a:blip r:embed="rId1"/>
            <a:srcRect l="21942" t="5710" r="14567" b="11611"/>
            <a:stretch/>
          </p:blipFill>
          <p:spPr>
            <a:xfrm>
              <a:off x="1692360" y="1025640"/>
              <a:ext cx="5975280" cy="58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692360" y="1010520"/>
              <a:ext cx="115236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(t/anno/km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4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RETE STRADALE DELLA LOMBARDI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21942" t="8658" r="15301" b="14564"/>
          <a:stretch/>
        </p:blipFill>
        <p:spPr>
          <a:xfrm>
            <a:off x="1546200" y="692280"/>
            <a:ext cx="61214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1634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IN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970920"/>
            <a:ext cx="777708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em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belle usate dal modulo emissioni per ar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cedure di calco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belle di out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goritmo utilizzato per la stima delle emissio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ncio procedure da masch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estione locale dei risult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 di out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 di mapp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1634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EM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833400"/>
            <a:ext cx="77770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utile poter conoscere non soltanto le emissioni da traffico lineare, ma essere in grado di attribuirle a ciascun arco strada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fare questo si è decisa l’implementazione di un nuovo modulo, che scrive in apposite tabelle di output in forma disaggregata per arco i dati che sono in ogni caso già prodotti dal modulo traffico lineare in tabelle intermedie, ma che  in seguito vengono da esso aggreg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41814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odulo emissioni per arco utilizza le tabelle del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ffico lineare. Le nuove tabelle introdotte per questo modulo sono solo tabelle di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5445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emissioni totali per un singolo arco stradale si calcolano tramite il seguente algoritmo a partire dai valori di emissio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lo scarico ed evaporative, a freddo e a cald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1634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TABELLE E ALGORIT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10508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odulo emissioni per arco utilizza le tabelle del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ffico lineare. Le nuove tabelle introdotte per questo modulo sono solo tabelle di out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565360"/>
            <a:ext cx="82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emissioni totali per un singolo arco stradale si calcolano tramite gli algoritmi COPERT già previsti nel modulo traffico lineare. Sono quindi la somma delle emissioni allo scarico a caldo, a freddo, evaporative, da usura, ec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n ci sono nuovi algoritmi ma è solo un utilizzo di quelli previsti nel modulo lineare per singolo ar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92360" y="115920"/>
            <a:ext cx="56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CEDURE DI CAL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6560" y="978480"/>
            <a:ext cx="842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to il numero molto grande di dati e le difficoltà di gestio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risultati per arco non possono essere generati direttamente 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FFICO_INTERMEDI in modo comple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questo motivo si rende necessario creare le tabelle con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sultati disaggregati per arco come risultato di specifiche richies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456360"/>
            <a:ext cx="805068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istono due tipi di run per questo modu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primo permette di calcolare le emissioni da traffico line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l’intera regione o per una singola provincia con dettagl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arco stradale ma senza dettaglio di codice Coper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econdo permette di calcolare le emissioni da traffico line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un singolo comune con dettaglio di arco stradale e di cod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p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41440" y="1015920"/>
            <a:ext cx="798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risultati senza dettaglio di codice Copert sono scrit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a tabell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L_TRAFFICO_ARCO_PROV_ATT_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e ha la seguente strut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37520" y="26028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TABELLE DI OUTPUT 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5280" y="2332080"/>
            <a:ext cx="3759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AR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STAT_COMU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INQU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COMBUSTIB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ATTIV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EFF_INCERTEZZA_I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EFF_INCERTEZZA_F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VALORE_EMISS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54928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campo VALORE_EMISSIONE è l’output della proced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3240" y="978840"/>
            <a:ext cx="818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risultati con dettaglio di codice Copert sono scrit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a tabell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L_TRAFFICO_ARCO_COMUNE_COPER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cui campi sono gli stessi della tabella provincia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 con in aggiunta il campo relativo al codice Copert dei veico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03960" y="26028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TABELLE DI OUTPUT 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5280" y="2684160"/>
            <a:ext cx="3759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AR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STAT_COMU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INQU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COMBUSTIB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ATTIV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DICE_COP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EFF_INCERTEZZA_I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EFF_INCERTEZZA_F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VALORE_EMISS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61405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campo VALORE_EMISSIONE è l’output della proced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17317" b="23419"/>
          <a:stretch/>
        </p:blipFill>
        <p:spPr>
          <a:xfrm>
            <a:off x="539640" y="851040"/>
            <a:ext cx="8064720" cy="5602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4360" y="5661000"/>
            <a:ext cx="1584000" cy="287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159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LANCIO PROCEDURE DA MASCH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38721" b="55712"/>
          <a:stretch/>
        </p:blipFill>
        <p:spPr>
          <a:xfrm>
            <a:off x="1474920" y="1628640"/>
            <a:ext cx="5976720" cy="3240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47640" y="2709720"/>
            <a:ext cx="3816360" cy="719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1592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CEDURE EMISSIONI PER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maschera di selezione dettagl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aserini</cp:lastModifiedBy>
  <dcterms:modified xsi:type="dcterms:W3CDTF">2008-10-13T10:17:48Z</dcterms:modified>
  <cp:revision>174</cp:revision>
  <dc:subject/>
  <dc:title>PowerPoint Presentation</dc:title>
</cp:coreProperties>
</file>