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62C-8810-4E38-A286-007B70E1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97D-BE15-4E06-BEB3-F96827F0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B79-243F-4BC5-8C8F-386DB487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57C-5EB0-4879-8470-9DD02585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43E-A1AA-4962-A19C-0D145030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FAA-2028-416E-87B1-32BF1034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B51-90E9-45AF-9498-4859EBCF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3A3-3D9B-4AE1-89AE-2AFF13A6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F28-BEE2-4F71-88FB-12E01BED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403-B651-49F5-9B8A-D795DA33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186-AB9F-4F10-BB08-FAF8FD6E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A81-C277-4506-8D08-EB10574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C23B-DFE5-4EEC-BD99-263665CD3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7920" y="2174760"/>
            <a:ext cx="6095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TTORI DI EMISSIONE MEDI DA TRAF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3417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9400" y="152280"/>
            <a:ext cx="87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automobili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legger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1760" y="1074600"/>
            <a:ext cx="88599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891540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286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pesanti in Lombardia nel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009800"/>
            <a:ext cx="8763120" cy="158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ciclomotori e motocicl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4160" y="136440"/>
            <a:ext cx="8661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parazione tabel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E auto tipo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legis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f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isultati traffico_intermedi_2005_LOM - fattori emissione - PR.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xl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Inemar - traf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ccodare i dati della tabella collegata da server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_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nella tabella loca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tramite l’apposit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ccoda TRAFFICO_INTERMEDI_REG_C a 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opo aver svuotato la tabella loca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l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base traffico intermedi copert tipo legisl periodo_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piare i dati in un foglio exc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ollare che il totale delle emissioni complessive regionali da traffico sia corre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dei fogli excel nuovi in cui impostare le formule per i calcoli dei FE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6120" y="152280"/>
            <a:ext cx="863928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ottenere il FE medio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de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ivi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emissione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a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er la percorrenza relativa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e moltiplicare per 100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unità di misura è mg/km, eccetto che per la C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n cui è g/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l’emissione è di polvere da usura (senza combustibile), è in diversi ca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cessario in ogni caso attribuirla a ogni combustibile: ad esempio si suppone 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emissioni di PM10 da automobili da processi di usura siano attribuibili a vei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benzina, diesel, metano e GPL in funzione delle rispettive percorren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ti i combustibil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…, la formula per ottenere il FE medio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M10 da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arà allora la segu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(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/(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+ 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+ …))/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420120"/>
            <a:ext cx="85104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fattori di emissione medi possono derivar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 stime dei FE basate sulle curva copert e su velocità medi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è arbitraria la scelta di velocità medie; a volte si usano una velocità media per ciclo di guida urbano,  extraurbano e autostradale)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da stime basate dal rapporto fra le emissioni e le percorrenz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possibile facilmente in Inemar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73960" y="4724280"/>
            <a:ext cx="681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I fattori di emissione medi possono essere espressi 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(auto, moto, leggeri, pesanti, e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carburante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(euro 0, I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e cilindrata (tipo cop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1680" y="3754440"/>
            <a:ext cx="6330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zione alle emissioni da usura ed evapor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5717" r="0" b="0"/>
          <a:stretch/>
        </p:blipFill>
        <p:spPr>
          <a:xfrm>
            <a:off x="1406520" y="838080"/>
            <a:ext cx="6681960" cy="579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2440" y="0"/>
            <a:ext cx="851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Esempio di tabella di fattori di emissione medi di  PM10 (mg/km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840" y="1725480"/>
            <a:ext cx="8945640" cy="459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87280" y="4046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0360" y="3716280"/>
            <a:ext cx="9901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7427" r="0" b="0"/>
          <a:stretch/>
        </p:blipFill>
        <p:spPr>
          <a:xfrm>
            <a:off x="179280" y="2060640"/>
            <a:ext cx="8713800" cy="4448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271440"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da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2935" r="0" b="85416"/>
          <a:stretch/>
        </p:blipFill>
        <p:spPr>
          <a:xfrm>
            <a:off x="179280" y="1125360"/>
            <a:ext cx="871380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0920" y="3920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173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2181240"/>
            <a:ext cx="914400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6720" y="115920"/>
            <a:ext cx="725472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con dettaglio carb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0880" y="1557360"/>
            <a:ext cx="821700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35280" y="392040"/>
            <a:ext cx="73436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dettaglio tipo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" y="1687680"/>
            <a:ext cx="8891640" cy="41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-1584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traffico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787320"/>
            <a:ext cx="77724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31:36Z</dcterms:created>
  <dc:creator>scaserini</dc:creator>
  <dc:description/>
  <dc:language>en-US</dc:language>
  <cp:lastModifiedBy>scaserini</cp:lastModifiedBy>
  <dcterms:modified xsi:type="dcterms:W3CDTF">2008-10-13T10:06:32Z</dcterms:modified>
  <cp:revision>41</cp:revision>
  <dc:subject/>
  <dc:title>Diapositiva 1</dc:title>
</cp:coreProperties>
</file>