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80F-0E93-4CD8-988C-F5344B70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632-78E7-4DAF-96CC-36FF526F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93D-BB29-4669-8D11-CE768BAD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C17-E81B-40F8-9A1B-CF6343CA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560-CAF7-4C98-A3F3-909106CC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E990-F27B-46B8-B94C-67451A46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449-8682-46A4-B431-5DDC16CF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CBB-827F-4A8E-90D8-6749A372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DCD-DE75-4CBE-B1A4-5E39FC6C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D4F-7A06-4425-A7E2-F3E9FCD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507-6A66-4BC8-A504-743AC1F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663-3894-4625-A041-387ADDA5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586F-60B2-40CF-A0EC-EFECDD1B4E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895040"/>
            <a:ext cx="94075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missioni per 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34490" b="46877"/>
          <a:stretch/>
        </p:blipFill>
        <p:spPr>
          <a:xfrm>
            <a:off x="1332000" y="1703520"/>
            <a:ext cx="6389640" cy="388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ENZA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prov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32079" b="38195"/>
          <a:stretch/>
        </p:blipFill>
        <p:spPr>
          <a:xfrm>
            <a:off x="1260360" y="1644480"/>
            <a:ext cx="662472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N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comuni e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1840" y="281160"/>
            <a:ext cx="873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assumendo, per il calcolo delle emissioni da traffico a livello di arco sono disponibili le op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provinc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comu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diverso dettaglio per i risultati, che finiscono rispettivamente nelle tab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PROV_ATT_C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COMUNE_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emporaneamente vengono calcolati anche i risultati a livello comunale per tutti gl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1840" y="281160"/>
            <a:ext cx="891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singolo arco vengono attribuite le sole emissioni con codice at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(autostra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(extrau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 (autostr usura)     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(extraurb usura)  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NON le emissioni a freddo di tipo LSF che hanno codice attività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enzione: a seconda di come è stato impostato un flag nel codice, nelle tabelle dei risultati per arco potrebbero venire salvati solo i risultati dell’ultimo run cioè una sola provincia o un solo comune per vo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710"/>
          <a:stretch/>
        </p:blipFill>
        <p:spPr>
          <a:xfrm>
            <a:off x="611280" y="938160"/>
            <a:ext cx="82612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826920" y="1119240"/>
            <a:ext cx="78282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684360" y="1052640"/>
            <a:ext cx="8137440" cy="56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OUTPUT: emissioni di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er arco stradale e settore in provincia di VA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PM10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88040" y="974880"/>
            <a:ext cx="5979600" cy="5838840"/>
            <a:chOff x="1688040" y="974880"/>
            <a:chExt cx="5979600" cy="58388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0560" y="974880"/>
              <a:ext cx="597708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88040" y="980280"/>
              <a:ext cx="1258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M10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NO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92360" y="1010520"/>
            <a:ext cx="5975280" cy="5847480"/>
            <a:chOff x="1692360" y="1010520"/>
            <a:chExt cx="5975280" cy="5847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2360" y="1025640"/>
              <a:ext cx="597528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92360" y="1010520"/>
              <a:ext cx="11523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ETE STRADALE DELLA LOMBARDI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942" t="8658" r="15301" b="14564"/>
          <a:stretch/>
        </p:blipFill>
        <p:spPr>
          <a:xfrm>
            <a:off x="154620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70920"/>
            <a:ext cx="7777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usate dal modulo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e di cal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mo utilizzato per la stima delle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ncio procedure da masch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map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3400"/>
            <a:ext cx="7777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tile poter conoscere non soltanto le emissioni da traffico lineare, ma essere in grado di attribuirle a ciascun arco strad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è decisa l’implementazione di un nuovo modulo, che scrive in apposite tabelle di output in forma disaggregata per arco i dati che sono in ogni caso già prodotti dal modulo traffico lineare in tabelle intermedie, ma che  in seguito vengono da esso aggreg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181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44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il seguente algoritmo a partire dai valori di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 scarico ed evaporative, a freddo e a cal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E ALGORIT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050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gli algoritmi COPERT già previsti nel modulo traffico lineare. Sono quindi la somma delle emissioni allo scarico a caldo, a freddo, evaporative, da usura,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i sono nuovi algoritmi ma è solo un utilizzo di quelli previsti nel modulo lineare per singolo 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11592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DI CAL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6560" y="978480"/>
            <a:ext cx="842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il numero molto grande di dati e le difficoltà di gest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per arco non possono essere generati direttament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_INTERMEDI in modo compl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questo motivo si rende necessario creare le tabelle con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disaggregati per arco come risultato di specifiche richi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56360"/>
            <a:ext cx="8050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ono due tipi di run per questo modu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’intera regione o per una singola provincia con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arco stradale ma senza dettaglio di codice Cop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 singolo comune con dettaglio di arco stradale e di co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p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440" y="1015920"/>
            <a:ext cx="79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senza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PROV_ATT_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ha la seguente strut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752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280" y="2332080"/>
            <a:ext cx="375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92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97884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con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COMUNE_COPER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ui campi sono gli stessi della tabella provinci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con in aggiunta il campo relativo al codice Copert dei veico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396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280" y="2684160"/>
            <a:ext cx="3759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DICE_COP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1405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317" b="23419"/>
          <a:stretch/>
        </p:blipFill>
        <p:spPr>
          <a:xfrm>
            <a:off x="539640" y="851040"/>
            <a:ext cx="8064720" cy="560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5661000"/>
            <a:ext cx="158400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NCIO PROCEDURE DA MASCH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8721" b="55712"/>
          <a:stretch/>
        </p:blipFill>
        <p:spPr>
          <a:xfrm>
            <a:off x="1474920" y="1628640"/>
            <a:ext cx="597672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2709720"/>
            <a:ext cx="3816360" cy="719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5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EMISSIONI PER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aserini</cp:lastModifiedBy>
  <dcterms:modified xsi:type="dcterms:W3CDTF">2008-10-13T10:17:48Z</dcterms:modified>
  <cp:revision>174</cp:revision>
  <dc:subject/>
  <dc:title>PowerPoint Presentation</dc:title>
</cp:coreProperties>
</file>