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243-F23A-45D2-A5FA-9F91D266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F40-975E-4064-8F40-4425DE98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871-FF9B-4E51-AD37-DD4F30ED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088-96C9-4FF4-BFD2-04ACBA69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E94-D57F-458E-9F39-0542E1C9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13A9-9AF5-4F3B-9CEA-019F088E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142-DD20-4C97-9F02-D80B1182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116-F21F-434A-99AF-BF2CB89F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BEB-7EB0-4CB5-A09E-F72C46A5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F54B-C4F7-46F5-B378-F42FF33D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1DA-0230-478D-91E0-8679FAD9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D0C-4055-4E72-868B-FB7CFA34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D198-22D1-4C07-A8BE-04FD57E179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895040"/>
            <a:ext cx="94075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missioni per 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34490" b="46877"/>
          <a:stretch/>
        </p:blipFill>
        <p:spPr>
          <a:xfrm>
            <a:off x="1332000" y="1703520"/>
            <a:ext cx="6389640" cy="3886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A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ENZA DETTAGLIO 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prov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32079" b="38195"/>
          <a:stretch/>
        </p:blipFill>
        <p:spPr>
          <a:xfrm>
            <a:off x="1260360" y="1644480"/>
            <a:ext cx="6624720" cy="4521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A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ON DETTAGLIO 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comuni e inquin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1840" y="281160"/>
            <a:ext cx="873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assumendo, per il calcolo delle emissioni da traffico a livello di arco sono disponibili le op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vello provinci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vello comu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diverso dettaglio per i risultati, che finiscono rispettivamente nelle tabel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L_TRAFF_ARCO_PROV_ATT_CO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L_TRAFF_ARCO_COMUNE_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emporaneamente vengono calcolati anche i risultati a livello comunale per tutti gli inquin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1840" y="281160"/>
            <a:ext cx="891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TA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singolo arco vengono attribuite le sole emissioni con codice attivit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(autostrad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 (extraur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 (autostr usura)      per pm10, pts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 (extraurb usura)   per pm10, pts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indi NON le emissioni a freddo di tipo LSF che hanno codice attività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tenzione: a seconda di come è stato impostato un flag nel codice, nelle tabelle dei risultati per arco potrebbero venire salvati solo i risultati dell’ultimo run cioè una sola provincia o un solo comune per vol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4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interrogazione 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5710"/>
          <a:stretch/>
        </p:blipFill>
        <p:spPr>
          <a:xfrm>
            <a:off x="611280" y="938160"/>
            <a:ext cx="82612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4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interrogazione 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0" b="6684"/>
          <a:stretch/>
        </p:blipFill>
        <p:spPr>
          <a:xfrm>
            <a:off x="826920" y="1119240"/>
            <a:ext cx="78282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6684"/>
          <a:stretch/>
        </p:blipFill>
        <p:spPr>
          <a:xfrm>
            <a:off x="684360" y="1052640"/>
            <a:ext cx="8137440" cy="5694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OUTPUT: emissioni di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er arco stradale e settore in provincia di VAR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MAP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per arco di PM10 in provincia di Va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88040" y="974880"/>
            <a:ext cx="5979600" cy="5838840"/>
            <a:chOff x="1688040" y="974880"/>
            <a:chExt cx="5979600" cy="58388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rcRect l="21942" t="5710" r="14567" b="11611"/>
            <a:stretch/>
          </p:blipFill>
          <p:spPr>
            <a:xfrm>
              <a:off x="1690560" y="974880"/>
              <a:ext cx="5977080" cy="58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688040" y="980280"/>
              <a:ext cx="1258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PM10 </a:t>
              </a: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(t/anno/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42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MAP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per arco di NO</a:t>
            </a:r>
            <a:r>
              <a:rPr b="0" lang="it-IT" sz="2400" spc="-1" strike="noStrike" baseline="-25000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in provincia di Va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92360" y="1010520"/>
            <a:ext cx="5975280" cy="5847480"/>
            <a:chOff x="1692360" y="1010520"/>
            <a:chExt cx="5975280" cy="58474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21942" t="5710" r="14567" b="11611"/>
            <a:stretch/>
          </p:blipFill>
          <p:spPr>
            <a:xfrm>
              <a:off x="1692360" y="1025640"/>
              <a:ext cx="597528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692360" y="1010520"/>
              <a:ext cx="11523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(t/anno/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RETE STRADALE DELLA LOMBARDI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1942" t="8658" r="15301" b="14564"/>
          <a:stretch/>
        </p:blipFill>
        <p:spPr>
          <a:xfrm>
            <a:off x="1546200" y="692280"/>
            <a:ext cx="612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970920"/>
            <a:ext cx="77770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m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elle usate dal modulo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cedure di calco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elle di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goritmo utilizzato per la stima delle emi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ncio procedure da masch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map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EM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833400"/>
            <a:ext cx="7777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utile poter conoscere non soltanto le emissioni da traffico lineare, ma essere in grado di attribuirle a ciascun arco strad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è decisa l’implementazione di un nuovo modulo, che scrive in apposite tabelle di output in forma disaggregata per arco i dati che sono in ogni caso già prodotti dal modulo traffico lineare in tabelle intermedie, ma che  in seguito vengono da esso aggreg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181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emissioni per arco utilizza le tabelle del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 lineare. Le nuove tabelle introdotte per questo modulo sono solo tabelle di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5445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totali per un singolo arco stradale si calcolano tramite il seguente algoritmo a partire dai valori di emi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o scarico ed evaporative, a freddo e a cal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E ALGORIT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0508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emissioni per arco utilizza le tabelle del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 lineare. Le nuove tabelle introdotte per questo modulo sono solo tabelle di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56536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totali per un singolo arco stradale si calcolano tramite gli algoritmi COPERT già previsti nel modulo traffico lineare. Sono quindi la somma delle emissioni allo scarico a caldo, a freddo, evaporative, da usura, ec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ci sono nuovi algoritmi ma è solo un utilizzo di quelli previsti nel modulo lineare per singolo ar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92360" y="115920"/>
            <a:ext cx="56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E DI CAL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6560" y="978480"/>
            <a:ext cx="842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to il numero molto grande di dati e le difficoltà di gesti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per arco non possono essere generati direttamente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_INTERMEDI in modo comple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questo motivo si rende necessario creare le tabelle con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ultati disaggregati per arco come risultato di specifiche richie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56360"/>
            <a:ext cx="80506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istono due tipi di run per questo modu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permette di calcolare le emissioni da traffico lin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l’intera regione o per una singola provincia con dettag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arco stradale ma senza dettaglio di codice Cop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permette di calcolare le emissioni da traffico lin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 singolo comune con dettaglio di arco stradale e di cod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p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1440" y="1015920"/>
            <a:ext cx="798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senza dettaglio di codice Copert sono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tab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L_TRAFFICO_ARCO_PROV_ATT_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ha la seguente strut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37520" y="260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DI OUTPUT 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280" y="2332080"/>
            <a:ext cx="375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R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STAT_COM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INQU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COMBUSTI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TTIV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VALORE_EMI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4928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ampo VALORE_EMISSIONE è l’output della proc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3240" y="978840"/>
            <a:ext cx="818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con dettaglio di codice Copert sono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tab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L_TRAFFICO_ARCO_COMUNE_COPER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cui campi sono gli stessi della tabella provincia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 con in aggiunta il campo relativo al codice Copert dei veico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3960" y="260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DI OUTPUT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5280" y="2684160"/>
            <a:ext cx="3759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R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STAT_COM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INQU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COMBUSTI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TTIV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DICE_COP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VALORE_EMI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61405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ampo VALORE_EMISSIONE è l’output della proc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7317" b="23419"/>
          <a:stretch/>
        </p:blipFill>
        <p:spPr>
          <a:xfrm>
            <a:off x="539640" y="851040"/>
            <a:ext cx="8064720" cy="560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5661000"/>
            <a:ext cx="158400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5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LANCIO PROCEDURE DA MASCH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38721" b="55712"/>
          <a:stretch/>
        </p:blipFill>
        <p:spPr>
          <a:xfrm>
            <a:off x="1474920" y="1628640"/>
            <a:ext cx="597672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47640" y="2709720"/>
            <a:ext cx="3816360" cy="719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159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E EMISSIONI PER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dettag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aserini</cp:lastModifiedBy>
  <dcterms:modified xsi:type="dcterms:W3CDTF">2008-10-13T10:17:48Z</dcterms:modified>
  <cp:revision>174</cp:revision>
  <dc:subject/>
  <dc:title>PowerPoint Presentation</dc:title>
</cp:coreProperties>
</file>