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2.png" ContentType="image/png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B9DB-BB7D-4E9C-86C1-4D8F0D56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C383-6CC4-4068-8A4E-5D2762C1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6F3B-846A-43EC-8849-32A2E13B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A68B-4DD4-45A1-9975-7772D2DC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4551-A5C0-4371-8BC8-D0D1A85B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4DB5-6711-4642-ACCF-D4B6FB17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381D-8376-4096-9B8C-907C261A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49BF-C00A-4EDC-8AE5-C58B4234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E7E2-E9BC-4EBE-A893-159C0645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632B-23FF-4EA2-8E5E-426C47C4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2830-20D7-47D8-BB11-8717CDD1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4E39-475E-4D96-8874-18294A48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51B3-7FCA-41EE-ABCC-0003EA65C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295280" cy="1263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2752560" cy="914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447920" y="2174760"/>
            <a:ext cx="6095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TTORI DI EMISSIONE MEDI DA TRAF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3417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9400" y="152280"/>
            <a:ext cx="87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automobili per settore, combustibile, tipo legislativo e periodo in Lombardia ne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22860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veicoli leggeri in Lombardia ne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1760" y="1074600"/>
            <a:ext cx="88599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320" y="1066680"/>
            <a:ext cx="8915400" cy="1447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2286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veicoli pesanti in Lombardia nel 200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280" y="1009800"/>
            <a:ext cx="8763120" cy="1581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ciclomotori e motocicli in Lombardia ne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4160" y="136440"/>
            <a:ext cx="8661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sempio di produzione di una tabella di fattori di emissione medi 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eparazione tabell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FE auto tipo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legis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f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risultati traffico_intermedi_2005_LOM - fattori emissione - PR.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xl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r girare Inemar - traf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ccodare i dati della tabella collegata da server 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NEMAR5_07_TRAFFICO_INTERMEDI_REG_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nella tabella loca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NEMAR5_07_TRAFFICO_INTERMEDI_RE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tramite l’apposita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query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ccoda TRAFFICO_INTERMEDI_REG_C a TRAFFICO_INTERMEDI_RE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dopo aver svuotato la tabella loca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r girare la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query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base traffico intermedi copert tipo legisl periodo_in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piare i dati in un foglio exc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trollare che il totale delle emissioni complessive regionali da traffico sia corret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truire dei fogli excel nuovi in cui impostare le formule per i calcoli dei FE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76120" y="152280"/>
            <a:ext cx="8639280" cy="60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sempio di produzione di una tabella di fattori di emissione medi 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ottenere il FE medio dell’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del combustibile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divid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’emissione dell’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al combustibile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per la percorrenza relativa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mbustibile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e moltiplicare per 1000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FEmedio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icomb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icomb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comb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*1000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’unità di misura è mg/km, eccetto che per la C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in cui è g/k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 l’emissione è di polvere da usura (senza combustibile), è in diversi ca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ecessario in ogni caso attribuirla a ogni combustibile: ad esempio si suppone 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 emissioni di PM10 da automobili da processi di usura siano attribuibili a veic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 benzina, diesel, metano e GPL in funzione delle rispettive percorrenz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ati i combustibil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mb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…, la formula per ottenere il FE medio 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M10 dal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sarà allora la seguent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FEmedio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icomb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*(Km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comb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/(Km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+ Km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comb2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+ …))/Km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*1000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420120"/>
            <a:ext cx="851040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 fattori di emissione medi possono derivare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a stime dei FE basate sulle curva copert e su velocità medi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è arbitraria la scelta di velocità medie; a volte si usano una velocità media per ciclo di guida urbano,  extraurbano e autostradale)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- da stime basate dal rapporto fra le emissioni e le percorrenz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(possibile facilmente in Inemar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73960" y="4724280"/>
            <a:ext cx="681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I fattori di emissione medi possono essere espressi  </a:t>
            </a:r>
            <a:br>
              <a:rPr sz="2400"/>
            </a:b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- Per settore (auto, moto, leggeri, pesanti, e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- Per settore e carburante </a:t>
            </a:r>
            <a:br>
              <a:rPr sz="2400"/>
            </a:b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- Per settore e tipo legislativo (euro 0, I, ec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- Per settore e tipo legislativo e cilindrata (tipo cop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1680" y="3754440"/>
            <a:ext cx="6330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zione alle emissioni da usura ed evapor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5717" r="0" b="0"/>
          <a:stretch/>
        </p:blipFill>
        <p:spPr>
          <a:xfrm>
            <a:off x="1406520" y="838080"/>
            <a:ext cx="6681960" cy="579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52440" y="0"/>
            <a:ext cx="851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Esempio di tabella di fattori di emissione medi di  PM10 (mg/km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9840" y="1725480"/>
            <a:ext cx="8945640" cy="4599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87280" y="404640"/>
            <a:ext cx="69850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medi di PM, NOx e COV dai veicoli a motore (in mg/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360360" y="3716280"/>
            <a:ext cx="990108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47427" r="0" b="0"/>
          <a:stretch/>
        </p:blipFill>
        <p:spPr>
          <a:xfrm>
            <a:off x="179280" y="2060640"/>
            <a:ext cx="8713800" cy="4448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44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271440"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da veicoli a motore (in mg/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0" t="2935" r="0" b="85416"/>
          <a:stretch/>
        </p:blipFill>
        <p:spPr>
          <a:xfrm>
            <a:off x="179280" y="1125360"/>
            <a:ext cx="8713800" cy="9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0920" y="392040"/>
            <a:ext cx="69850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medi di PM, NOx e COV dai veicoli a motore (in mg/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1730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2181240"/>
            <a:ext cx="9144000" cy="34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36720" y="115920"/>
            <a:ext cx="725472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medi di PM, NOx e COV dai veicoli a motore (in mg/km) con dettaglio carbur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14480" cy="1508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0880" y="1557360"/>
            <a:ext cx="8217000" cy="50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835280" y="392040"/>
            <a:ext cx="73436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medi di PM, NOx e COV dai veicoli a motore (in mg/km) dettaglio tipo 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14480" cy="1508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33200" y="1687680"/>
            <a:ext cx="8891640" cy="41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280" y="-1584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traffico per settore, combustibile, tipo legislativo e periodo in Lombardia ne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787320"/>
            <a:ext cx="777240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0:31:36Z</dcterms:created>
  <dc:creator>scaserini</dc:creator>
  <dc:description/>
  <dc:language>en-US</dc:language>
  <cp:lastModifiedBy>scaserini</cp:lastModifiedBy>
  <dcterms:modified xsi:type="dcterms:W3CDTF">2008-10-13T10:06:32Z</dcterms:modified>
  <cp:revision>41</cp:revision>
  <dc:subject/>
  <dc:title>Diapositiva 1</dc:title>
</cp:coreProperties>
</file>