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2.png" ContentType="image/png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A872-7CDB-4783-A356-5D2E2EDB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FA0D-67A4-43E1-851E-38CECF34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6BF-92A8-4EA6-B2AD-22134D9F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C207-9F74-45F9-BBA6-0A73CBF9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53FC-7C11-4B3E-BA5B-26A5AE55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90F1-3735-4F02-8C9F-FC3E85FE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E5B-EB1F-457B-BEF7-4BCB5949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169-97D6-4275-85F1-D6E8E682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064-7F1B-46D5-B271-FB610427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018-C0F3-4CD6-9827-1C518F9E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FD22-E2D0-43D3-841F-473276A0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CAF-6278-4CA3-88E6-08986416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6315-2477-4025-9F9B-EEF26E29B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47920" y="2174760"/>
            <a:ext cx="6095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TTORI DI EMISSIONE MEDI DA TRAF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3417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9400" y="152280"/>
            <a:ext cx="87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automobili per settore, combustibile, tipo legislativo e periodo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2860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veicoli leggeri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1760" y="1074600"/>
            <a:ext cx="88599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8915400" cy="1447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2286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veicoli pesanti in Lombardia nel 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1009800"/>
            <a:ext cx="8763120" cy="158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ciclomotori e motocicli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4160" y="136440"/>
            <a:ext cx="8661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sempio di produzione di una tabella di fattori di emissione medi 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parazione tabell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E auto tipo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legis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f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risultati traffico_intermedi_2005_LOM - fattori emissione - PR.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xl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r girare Inemar - traf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ccodare i dati della tabella collegata da server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EMAR5_07_TRAFFICO_INTERMEDI_REG_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nella tabella loca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EMAR5_07_TRAFFICO_INTERMEDI_RE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tramite l’apposita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ccoda TRAFFICO_INTERMEDI_REG_C a TRAFFICO_INTERMEDI_RE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dopo aver svuotato la tabella loca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r girare la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base traffico intermedi copert tipo legisl periodo_in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piare i dati in un foglio exc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trollare che il totale delle emissioni complessive regionali da traffico sia corret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ire dei fogli excel nuovi in cui impostare le formule per i calcoli dei FE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6120" y="152280"/>
            <a:ext cx="8639280" cy="60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sempio di produzione di una tabella di fattori di emissione medi 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ottenere il FE medio dell’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del 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divid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emissione dell’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al 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per la percorrenza relativa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e moltiplicare per 1000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Emedio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comb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100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unità di misura è mg/km, eccetto che per la C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in cui è g/k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l’emissione è di polvere da usura (senza combustibile), è in diversi ca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ecessario in ogni caso attribuirla a ogni combustibile: ad esempio si suppone 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emissioni di PM10 da automobili da processi di usura siano attribuibili a veic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 benzina, diesel, metano e GPL in funzione delle rispettive percorren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ti i combustibil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…, la formula per ottenere il FE medio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M10 da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arà allora la seguen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Emedio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(K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comb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/(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+ 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2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+ …))/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100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420120"/>
            <a:ext cx="851040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 fattori di emissione medi possono derivare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a stime dei FE basate sulle curva copert e su velocità medi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è arbitraria la scelta di velocità medie; a volte si usano una velocità media per ciclo di guida urbano,  extraurbano e autostradale)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- da stime basate dal rapporto fra le emissioni e le percorrenz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possibile facilmente in Inemar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73960" y="4724280"/>
            <a:ext cx="681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I fattori di emissione medi possono essere espressi  </a:t>
            </a:r>
            <a:br>
              <a:rPr sz="2400"/>
            </a:b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(auto, moto, leggeri, pesanti, e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carburante </a:t>
            </a:r>
            <a:br>
              <a:rPr sz="2400"/>
            </a:b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tipo legislativo (euro 0, I, ec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tipo legislativo e cilindrata (tipo cop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1680" y="3754440"/>
            <a:ext cx="6330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zione alle emissioni da usura ed evapor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5717" r="0" b="0"/>
          <a:stretch/>
        </p:blipFill>
        <p:spPr>
          <a:xfrm>
            <a:off x="1406520" y="838080"/>
            <a:ext cx="6681960" cy="579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2440" y="0"/>
            <a:ext cx="851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Esempio di tabella di fattori di emissione medi di  PM10 (mg/km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9840" y="1725480"/>
            <a:ext cx="8945640" cy="459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87280" y="404640"/>
            <a:ext cx="6985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60360" y="3716280"/>
            <a:ext cx="990108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47427" r="0" b="0"/>
          <a:stretch/>
        </p:blipFill>
        <p:spPr>
          <a:xfrm>
            <a:off x="179280" y="2060640"/>
            <a:ext cx="8713800" cy="4448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271440"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da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0" t="2935" r="0" b="85416"/>
          <a:stretch/>
        </p:blipFill>
        <p:spPr>
          <a:xfrm>
            <a:off x="179280" y="1125360"/>
            <a:ext cx="871380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0920" y="392040"/>
            <a:ext cx="6985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1730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2181240"/>
            <a:ext cx="914400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36720" y="115920"/>
            <a:ext cx="725472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 con dettaglio carb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14480" cy="1508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0880" y="1557360"/>
            <a:ext cx="821700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35280" y="392040"/>
            <a:ext cx="73436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 dettaglio tipo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14480" cy="1508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3200" y="1687680"/>
            <a:ext cx="8891640" cy="41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-1584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traffico per settore, combustibile, tipo legislativo e periodo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787320"/>
            <a:ext cx="77724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0:31:36Z</dcterms:created>
  <dc:creator>scaserini</dc:creator>
  <dc:description/>
  <dc:language>en-US</dc:language>
  <cp:lastModifiedBy>scaserini</cp:lastModifiedBy>
  <dcterms:modified xsi:type="dcterms:W3CDTF">2008-10-13T10:06:32Z</dcterms:modified>
  <cp:revision>41</cp:revision>
  <dc:subject/>
  <dc:title>Diapositiva 1</dc:title>
</cp:coreProperties>
</file>